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19991"/>
        <c:axId val="8289173"/>
      </c:barChart>
      <c:catAx>
        <c:axId val="22519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9173"/>
        <c:crosses val="autoZero"/>
        <c:auto val="1"/>
        <c:lblAlgn val="ctr"/>
        <c:lblOffset val="100"/>
        <c:noMultiLvlLbl val="0"/>
      </c:catAx>
      <c:valAx>
        <c:axId val="8289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19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18E-4CE3-4018-9308-A6537771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7A1-1590-4C58-A8D2-C272921C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CFC-FE55-4132-8C95-1BA92ECC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D0C-B633-4F8F-9400-C3E3325D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EFC-53CC-44B8-A5C6-53718409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81A-7D52-4305-BE57-1798FD08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DAA-AE43-4D24-AB4B-F30BE7DE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C54-67C8-4686-8558-84CE999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564-7693-4A8C-85BD-51A5ED27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4E8-D523-4431-A9E1-0B7AF45B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BDC-7386-4A2E-9491-A601BC02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01F-43EB-4994-BE5E-FFEFD580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18E5F-159B-4B9C-9376-E12AD6C855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