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68093"/>
        <c:axId val="11947546"/>
      </c:barChart>
      <c:catAx>
        <c:axId val="58168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47546"/>
        <c:crosses val="autoZero"/>
        <c:auto val="1"/>
        <c:lblAlgn val="ctr"/>
        <c:lblOffset val="100"/>
        <c:noMultiLvlLbl val="0"/>
      </c:catAx>
      <c:valAx>
        <c:axId val="11947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68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946-0A64-4406-B648-1B0355C4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D4E-BCD0-4130-A69E-18446945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12A-8A7B-4CA1-A23D-36DEBF7F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715-4DBB-4DCF-8FBE-E6CD9A7D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639-D607-4729-A4EF-E1CB989F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E93-6206-47C5-908A-4FF80E7D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DBB-8034-492C-AFB8-2EE1595D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8C0-94D1-490B-8935-A0AB5EED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06E-38A9-43A3-B2F4-0196D858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08E-5027-44ED-97CB-14B35A76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529-D8B0-4AB6-B3AD-10AFC01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09D-1C32-4ADB-B837-E967000A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2FD6D-4E05-48D4-9C6B-191600E513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