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98152"/>
        <c:axId val="93433108"/>
      </c:barChart>
      <c:catAx>
        <c:axId val="79298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33108"/>
        <c:crosses val="autoZero"/>
        <c:auto val="1"/>
        <c:lblAlgn val="ctr"/>
        <c:lblOffset val="100"/>
        <c:noMultiLvlLbl val="0"/>
      </c:catAx>
      <c:valAx>
        <c:axId val="93433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98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3B7-4FAE-4400-9565-02EE4865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EFB-31FE-49A8-B273-0714C6AE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0DA-CDB3-43A4-86DB-33485D18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0FA-369C-48C8-A6F9-367EE473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383-6471-4DF5-9917-CE89E74D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D4B-482D-40B4-977D-E0F0A080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B4D-9575-41AF-BD68-178B243B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A5B-01BF-4233-A35B-71D88A06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321-C955-42A4-A025-0A7626A7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077-8C4D-44F7-99C0-6F9B950C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33B-1815-4F9D-AFBC-68B4CFAF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427-2E07-4ECA-BDC7-3A3D0826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572C1-8D1A-46A1-A03F-6C22373432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