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759548"/>
        <c:axId val="71672526"/>
      </c:barChart>
      <c:catAx>
        <c:axId val="327595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72526"/>
        <c:crosses val="autoZero"/>
        <c:auto val="1"/>
        <c:lblAlgn val="ctr"/>
        <c:lblOffset val="100"/>
        <c:noMultiLvlLbl val="0"/>
      </c:catAx>
      <c:valAx>
        <c:axId val="716725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7595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CEE5-0B2F-4EB1-A189-F23A71F84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1BA2-450D-49B8-822B-59726929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ED0C-B78D-46FD-98FA-B795264D9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452D-FEE6-42D4-BBC8-EE206D18C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3E6E-8A81-4B91-8A04-9B8920CD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70E3-4EF9-43CC-A153-E199B6DF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47C3-76EE-4B63-9BAC-D4DF603C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BDB2-0540-47AA-95C0-20D8FDFC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0B83-145D-4FD0-B92D-228F4391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26E6-447A-4570-90BD-E13AB9E6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91A1-B32A-4DE4-B2D8-C4017CA0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DF5B-F0E0-41F2-B4FC-FDFD0F5A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11526-AE79-4198-8D74-BE34BFEE73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