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69505"/>
        <c:axId val="78138953"/>
      </c:barChart>
      <c:catAx>
        <c:axId val="30569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38953"/>
        <c:crosses val="autoZero"/>
        <c:auto val="1"/>
        <c:lblAlgn val="ctr"/>
        <c:lblOffset val="100"/>
        <c:noMultiLvlLbl val="0"/>
      </c:catAx>
      <c:valAx>
        <c:axId val="78138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69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90D-CF0C-4C6A-96C4-9A136CA4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5F0-E3EB-4589-A14B-CF2EB551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AE8-65E2-4BF4-AA22-D256D4C5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4E1-B758-41A0-ACA5-B3E81523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F3E-2882-4945-8CF5-5BD54EDC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04A-DAC9-4B95-A653-8F5EB339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C79-1998-4583-9A33-5369EF18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29C-1A43-40FB-8BA7-7C911468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285-1057-4EC5-9436-4A0B9E96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DEC-C960-4964-8E8F-B9E7F29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B76-A04B-4E15-9945-BFAA14DB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1C5-B7A7-49AF-B586-F960AB2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33E8E-31D9-4366-B5C5-61F28219BF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