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1493"/>
        <c:axId val="41411403"/>
      </c:barChart>
      <c:catAx>
        <c:axId val="45211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1403"/>
        <c:crosses val="autoZero"/>
        <c:auto val="1"/>
        <c:lblAlgn val="ctr"/>
        <c:lblOffset val="100"/>
        <c:noMultiLvlLbl val="0"/>
      </c:catAx>
      <c:valAx>
        <c:axId val="41411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1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762-0849-4F7D-891C-1C962A21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110-B72B-421D-87AF-732EB9B5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7B6-DBE2-4E6C-9438-8B46A26B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CB5-3D56-4746-BA1B-69F6935E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001-5649-4EF3-9381-E8C611C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54C-BC43-4817-94A4-705E565A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F33-C91C-4410-B79C-FC31032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EB8-FA4F-47E1-B89F-1069E1D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14B-EDA0-4391-9CA3-F4170602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09A-7156-49A2-BC0F-F05D6148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4F4-C1BE-4336-B15C-EA5C6C9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AB1-893C-48DF-BC32-F0DB1A6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2D81-EF7E-4C71-808C-B336CCBE0A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