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81808"/>
        <c:axId val="44349288"/>
      </c:barChart>
      <c:catAx>
        <c:axId val="65381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49288"/>
        <c:crosses val="autoZero"/>
        <c:auto val="1"/>
        <c:lblAlgn val="ctr"/>
        <c:lblOffset val="100"/>
        <c:noMultiLvlLbl val="0"/>
      </c:catAx>
      <c:valAx>
        <c:axId val="44349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81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CB5-5B37-4B69-9041-7458D8B6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C53-3BC4-4084-BD08-10E0D736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69E-7305-4930-B913-0E2C0679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B65-6C4F-4D50-9017-3F60E117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FB8-D55B-4C1C-B9A7-BFBC97C9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F4F-9472-47EE-8226-AD9F1D76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6E7-D358-4C1B-88F0-3B09A96B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674-2C7D-49FA-9967-94AE4DC7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956-47B5-4F79-B4EF-B423DFFD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A46-CAC2-4FB9-999C-8009FED9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3CD-DE2B-4B55-B695-4D9EEC1B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C07-8FC4-4FEF-A383-9F91E4A8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0E42B-78FC-42E5-B122-DA17B880B4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