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67883"/>
        <c:axId val="90297466"/>
      </c:barChart>
      <c:catAx>
        <c:axId val="14267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97466"/>
        <c:crosses val="autoZero"/>
        <c:auto val="1"/>
        <c:lblAlgn val="ctr"/>
        <c:lblOffset val="100"/>
        <c:noMultiLvlLbl val="0"/>
      </c:catAx>
      <c:valAx>
        <c:axId val="90297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67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64C-3732-4282-9245-E4510A2B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4BE-EC56-4AC1-8916-0DD99855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F80-61AB-4B87-9D2A-18A07E18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DB7-FE90-466A-AEC2-9FB7A3D6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603-E9BC-44FE-AFA8-2D4501D3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F0B-9025-47C5-97B2-27410FEF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713-772E-45B4-B49E-02141484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A63-C049-466F-A6E4-BD8682FC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72C-46E4-4655-B6B5-361BAA2D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CD0-A3C6-4717-9F53-20B9B7B3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486-57B9-43F0-AD22-649EF411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301-576C-4EB6-A6A6-A8B57947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85FEC-0BE4-42EB-872E-1111BAACB7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