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859378"/>
        <c:axId val="93500421"/>
      </c:barChart>
      <c:catAx>
        <c:axId val="968593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500421"/>
        <c:crosses val="autoZero"/>
        <c:auto val="1"/>
        <c:lblAlgn val="ctr"/>
        <c:lblOffset val="100"/>
        <c:noMultiLvlLbl val="0"/>
      </c:catAx>
      <c:valAx>
        <c:axId val="93500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8593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A6C-73DE-4659-912C-79E9466C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C3C-8761-431F-97B7-AA0FD484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266-03CF-4A05-B373-E83F7EEEC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7AD6-8A99-484F-BDA9-96F2C7215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48DE-0E5E-4DF3-9625-A86E2C8C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0BF6-EFDF-4A7A-B711-E26E8DCC0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C43F-24F0-483A-9629-15088A5B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4CB-4D3A-4AB6-9392-12203371C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F892-B954-49AE-A791-1B51E797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6D92-971D-46E3-82FB-E834DDD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ADDE-881D-4AC9-8D4D-698001CAD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263C-74C6-4652-8391-D0EE1946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C4A0A-6BF2-472B-AB53-0ECB5762DA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