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780159"/>
        <c:axId val="57197364"/>
      </c:barChart>
      <c:catAx>
        <c:axId val="207801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197364"/>
        <c:crosses val="autoZero"/>
        <c:auto val="1"/>
        <c:lblAlgn val="ctr"/>
        <c:lblOffset val="100"/>
        <c:noMultiLvlLbl val="0"/>
      </c:catAx>
      <c:valAx>
        <c:axId val="5719736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7801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707-29FF-4BEB-9210-7DDBEF77A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39D7-1FE3-4835-B570-7BC5ACA9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B65-80C6-4AD8-83A3-4F9FE43E9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5E00-02A2-44F0-B505-3D494FD96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CA30-6C89-47A9-984A-1E67ED0C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8D46-9EFF-44FF-BCE4-864AFC0B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6F35-95FA-4EFF-A5E3-CAD9D91C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5DA7-B072-44F0-B2CE-636FFD60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0A5C-5263-4547-B652-CCF96B22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64B8-580A-4DAB-904A-D53E0B8D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F191-2169-4123-B772-2FC14ACA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625-C954-45C7-840A-50D99135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DBEBFF-A398-457C-8D7E-1A307F497D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