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395468"/>
        <c:axId val="52742153"/>
      </c:barChart>
      <c:catAx>
        <c:axId val="243954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742153"/>
        <c:crosses val="autoZero"/>
        <c:auto val="1"/>
        <c:lblAlgn val="ctr"/>
        <c:lblOffset val="100"/>
        <c:noMultiLvlLbl val="0"/>
      </c:catAx>
      <c:valAx>
        <c:axId val="527421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3954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13D5-C9BD-4AC9-B133-3036406D6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6A45-5CD3-411F-B9F3-804F0A29B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7D6B-F2E7-47E4-80F6-D16EAEB99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9E28-42CC-4280-939F-8B8442507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074A-73BD-43DB-8536-2A924BBB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1376-F40F-4AE9-B661-737949EC9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7F74-4042-4BCC-9127-0A1D7FDFE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4EED-452A-424B-9302-ADBC5BD36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8A7A-8857-4F5A-8F57-4A0F1577E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4B29-8BF0-4E7E-8F52-17F1ACF3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5FE8-E61B-4BA8-B446-E969056D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736E-88DF-4771-B8C8-73F80BD7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157A14-A5FA-49D9-B875-A7B9D95498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