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7514"/>
        <c:axId val="11426854"/>
      </c:barChart>
      <c:catAx>
        <c:axId val="8007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26854"/>
        <c:crosses val="autoZero"/>
        <c:auto val="1"/>
        <c:lblAlgn val="ctr"/>
        <c:lblOffset val="100"/>
        <c:noMultiLvlLbl val="0"/>
      </c:catAx>
      <c:valAx>
        <c:axId val="11426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7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798-6018-4433-B6E2-EBE3C7B1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DEA-321A-4672-A7E3-7EB96ED6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F46-DDCE-4739-8906-D769DABD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6A76-1472-4BD8-AA8D-B5BC62CE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702-6DA7-4B72-BDEE-DAC3AC22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76A-2A43-4EA1-AA39-FD0EA153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151-5C82-459B-935D-29022778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0C2-8EEE-46EA-8E8E-2F0CB558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C215-66A2-4A7F-B6FD-889D2EB7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1DB-DC3A-4464-B5E8-BA37E611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B34-CC91-4F2E-AFE6-61E1B2E3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A8F-A2C4-4D33-8D0C-2FE64DAE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43D14-EDF7-4100-B319-00DE6F69D2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