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463723"/>
        <c:axId val="90552702"/>
      </c:barChart>
      <c:catAx>
        <c:axId val="594637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52702"/>
        <c:crosses val="autoZero"/>
        <c:auto val="1"/>
        <c:lblAlgn val="ctr"/>
        <c:lblOffset val="100"/>
        <c:noMultiLvlLbl val="0"/>
      </c:catAx>
      <c:valAx>
        <c:axId val="905527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4637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1549-7A09-48C6-86F8-C26E862C4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449F-30A4-4DB5-985F-065A9281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E18D-3A98-4766-A7D4-687C1340F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3557-BE16-4CC0-8751-65A6825DE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6594-876C-4837-87BE-7B3655C7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2D1E-88C1-471B-88BD-A3DC02FF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21B4-E020-4436-AD60-F832B497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66B8-7A87-4361-9755-5EA91996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9E1D-D97B-4917-A7E2-22088219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D31D-94D6-4FDE-9DBC-FAAC9611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7330-900E-46FD-9B1F-37DFDBA1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FF3A-D55E-4B84-8DE4-8F6A763D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E180F-1B6F-4101-B9C4-61A8B1860C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