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076456"/>
        <c:axId val="92504324"/>
      </c:barChart>
      <c:catAx>
        <c:axId val="280764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504324"/>
        <c:crosses val="autoZero"/>
        <c:auto val="1"/>
        <c:lblAlgn val="ctr"/>
        <c:lblOffset val="100"/>
        <c:noMultiLvlLbl val="0"/>
      </c:catAx>
      <c:valAx>
        <c:axId val="925043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0764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A099-872D-4BF1-9EB1-C141E983F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89D58-E38B-45E1-9917-464B9C057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9E07-5541-4813-842C-2E13E87FB6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27B17-15B6-488C-8E98-82AFBB9BF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BF7C7-568D-4D49-BA4F-2E6DFF84B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122BE-05D1-458E-A3E8-DD4AA5984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2F1E-ECCD-4F8F-A0BD-003D8C6E3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414C-B567-45EE-B010-BE4384B9E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8F9B-E35A-4788-B861-D9A8FF33D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A2BA-1C2F-4B63-8812-C9766F86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23BED-7B47-4E0F-957B-DD2ACE046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A7F0-1E97-4F3B-9D7E-2C5DA2422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80BD35-CE9C-49EF-878F-BE89ADC7CDF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