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3560-6A90-4605-A86A-433E8F3ED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9022-A5ED-45A8-B06B-63B3FA1F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CA14-D86E-4225-8B40-1BE0EAC9F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C2B6-1D89-4D73-8AC2-B1EB4AD22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78EA-049D-48E3-9E24-759A6332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5462-ACAC-4BCA-AC8B-164D64B8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714B-13D4-49F8-A27B-F2081EBE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879E-5EF9-47BA-9454-62D7059C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2CD9-20D0-48DE-B2C8-6D046FC2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FD8E-4850-4CAF-B305-DDF10A95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01E4-00DC-4D81-B88D-ED8868F2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D4A6-D28A-40D6-8E86-0C81A483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BAF3-2FF6-48DF-9F5A-537CC009A1B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05B2-A60F-41E9-96F4-8B2E2D694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I: The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kedList: Example of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1676520"/>
            <a:ext cx="2362320" cy="2438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ked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3048120"/>
            <a:ext cx="495324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4520" y="48769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4520" y="403848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FA04-BE77-4969-A042-51785D22954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FBCE3A-4C89-4DFC-BB9B-02796B708E9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958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ctivity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set of actions which should be invoked at the “same tim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 of actions or action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s sche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s one level of model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2666880"/>
            <a:ext cx="1123920" cy="725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5334120"/>
            <a:ext cx="1123920" cy="7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44197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67480" y="53611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1828800"/>
            <a:ext cx="1123920" cy="77940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40" idx="1"/>
            <a:endCxn id="133" idx="0"/>
          </p:cNvCxnSpPr>
          <p:nvPr/>
        </p:nvCxnSpPr>
        <p:spPr>
          <a:xfrm flipV="1" rot="10800000">
            <a:off x="5971320" y="2218320"/>
            <a:ext cx="429480" cy="44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3"/>
            <a:endCxn id="138" idx="0"/>
          </p:cNvCxnSpPr>
          <p:nvPr/>
        </p:nvCxnSpPr>
        <p:spPr>
          <a:xfrm>
            <a:off x="7524720" y="2219400"/>
            <a:ext cx="505440" cy="2201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3" idx="1"/>
            <a:endCxn id="136" idx="0"/>
          </p:cNvCxnSpPr>
          <p:nvPr/>
        </p:nvCxnSpPr>
        <p:spPr>
          <a:xfrm flipV="1" rot="10800000">
            <a:off x="5285520" y="302940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3" idx="3"/>
            <a:endCxn id="130" idx="0"/>
          </p:cNvCxnSpPr>
          <p:nvPr/>
        </p:nvCxnSpPr>
        <p:spPr>
          <a:xfrm>
            <a:off x="6534000" y="303012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6" idx="2"/>
            <a:endCxn id="137" idx="0"/>
          </p:cNvCxnSpPr>
          <p:nvPr/>
        </p:nvCxnSpPr>
        <p:spPr>
          <a:xfrm>
            <a:off x="52858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0" idx="2"/>
            <a:endCxn id="135" idx="0"/>
          </p:cNvCxnSpPr>
          <p:nvPr/>
        </p:nvCxnSpPr>
        <p:spPr>
          <a:xfrm>
            <a:off x="66574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7" idx="2"/>
            <a:endCxn id="134" idx="0"/>
          </p:cNvCxnSpPr>
          <p:nvPr/>
        </p:nvCxnSpPr>
        <p:spPr>
          <a:xfrm>
            <a:off x="5285880" y="51447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8" idx="2"/>
            <a:endCxn id="139" idx="0"/>
          </p:cNvCxnSpPr>
          <p:nvPr/>
        </p:nvCxnSpPr>
        <p:spPr>
          <a:xfrm>
            <a:off x="8029080" y="5168880"/>
            <a:ext cx="1080" cy="1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F1A7-7517-4A5E-9549-4F1C3F04E9A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04D0E4-319D-4B61-A437-32087F3132B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32280" y="2971800"/>
            <a:ext cx="5057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Begin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o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setRepeatInterval: n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   at: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eat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981080"/>
            <a:ext cx="3352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ithin schedule of first inv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name or actio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49440" y="1565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77880" y="14778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35480" y="3938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34320" y="41911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44197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96080" y="48006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533412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45720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1880" y="3200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B51F-B004-402E-90FA-3F14BCE9C009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A728FE-8628-4E6F-8514-01D0ED1B204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of time in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in schedule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ba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ll schedules are activated at beginning doesn’t matter 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239920"/>
            <a:ext cx="400392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3704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9752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9316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590920"/>
            <a:ext cx="198144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4688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0736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3733920"/>
            <a:ext cx="236196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0736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4952880"/>
            <a:ext cx="373392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010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2920" y="2743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1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events, after which it s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2920" y="3886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2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vent and repeat interval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18880" y="510552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0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at t=1 and repeat intv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438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3581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724280"/>
            <a:ext cx="41148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AB16-712A-47ED-932B-29B52411724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1EF0F6-8DC2-4AE4-A6CD-8A9374E64CF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70800" y="502920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1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286000"/>
            <a:ext cx="8158320" cy="14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1 message:M(message1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4 createActionTo: obj4 message:M(message4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0800" y="373392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2038320"/>
            <a:ext cx="548640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3684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973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929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57800" y="2514600"/>
            <a:ext cx="198108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6564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2612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4002120"/>
            <a:ext cx="41148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0716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5257800"/>
            <a:ext cx="297180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132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008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2286000"/>
            <a:ext cx="838224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these 3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380988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502920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707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96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0244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05920" y="388620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A1CB-87A3-4F66-BC96-FB1B1F89C18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EEC941-1F81-42D0-9579-8F99C80129E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2514600"/>
            <a:ext cx="8458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setRepeatInterval: 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repeatSchedul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at: 0 createActionTo: firm message:M(do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in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t:20 createActionTo: repeatSched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ssage: M(activateIn:):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ctivateIn: 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5659560"/>
            <a:ext cx="76201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40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492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6552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4660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132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276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724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076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9404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90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161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305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972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116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82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926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597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6480" y="1641600"/>
            <a:ext cx="747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: A schedule which executes the “do” method on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called “firm” every 3 periods, starting at t=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3F43-9F34-4D98-9464-DB8809BC801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9090C9-1447-45E4-9B30-B055DD179C4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Groups group together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ag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coll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should happen at same tim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743200"/>
            <a:ext cx="8512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onGroup=[ActionGroup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chedule at: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reateAction: actionGrou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49528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32767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67080" y="38098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77120" y="32767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3809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4952880"/>
            <a:ext cx="1295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62920" y="4419720"/>
            <a:ext cx="12952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4419720"/>
            <a:ext cx="9907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2907-EEB2-4CE6-8DA8-C582587B7BF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3DBB49-AAE6-4F7F-8A88-BB8BA68D224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4560" y="4191120"/>
            <a:ext cx="369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growthSchedule at: time+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ActionTo: food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: M(putValue:atX:Y:):1:x: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use dynamic scheduling to  schedule regrowth of food at future timestep after food is eaten by Simple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2400" y="3048120"/>
            <a:ext cx="888840" cy="853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1981080"/>
            <a:ext cx="723960" cy="723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267080"/>
            <a:ext cx="16002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05720" y="5257800"/>
            <a:ext cx="812520" cy="814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334120"/>
            <a:ext cx="357120" cy="23976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2920" y="5638680"/>
            <a:ext cx="395280" cy="180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29000" y="2209680"/>
            <a:ext cx="320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foodSpace eatX: xPos Y: yPo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1240" y="3124080"/>
            <a:ext cx="36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self putValue: 0 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 scheduleGrowth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0" idx="4"/>
            <a:endCxn id="269" idx="0"/>
          </p:cNvCxnSpPr>
          <p:nvPr/>
        </p:nvCxnSpPr>
        <p:spPr>
          <a:xfrm>
            <a:off x="8210520" y="2704680"/>
            <a:ext cx="7200" cy="34380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69" idx="2"/>
            <a:endCxn id="271" idx="0"/>
          </p:cNvCxnSpPr>
          <p:nvPr/>
        </p:nvCxnSpPr>
        <p:spPr>
          <a:xfrm flipH="1">
            <a:off x="8039160" y="3902040"/>
            <a:ext cx="178200" cy="36576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2" idx="0"/>
            <a:endCxn id="269" idx="1"/>
          </p:cNvCxnSpPr>
          <p:nvPr/>
        </p:nvCxnSpPr>
        <p:spPr>
          <a:xfrm flipH="1" flipV="1" rot="5400000">
            <a:off x="6550560" y="4035960"/>
            <a:ext cx="1783440" cy="66060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1" idx="4"/>
            <a:endCxn id="272" idx="5"/>
          </p:cNvCxnSpPr>
          <p:nvPr/>
        </p:nvCxnSpPr>
        <p:spPr>
          <a:xfrm rot="5400000">
            <a:off x="7523280" y="5437800"/>
            <a:ext cx="390960" cy="640440"/>
          </a:xfrm>
          <a:prstGeom prst="bentConnector3">
            <a:avLst>
              <a:gd name="adj1" fmla="val 159723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3352680" y="4267080"/>
            <a:ext cx="3657600" cy="990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3048120"/>
            <a:ext cx="3581280" cy="7617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2209680"/>
            <a:ext cx="3581280" cy="38124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02D6-D2C9-4ABE-880E-AD5EB471DCE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63B5A2-304C-4312-88E3-80BBA5CAB4D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dule has to be activated in a Swarm, otherwise it will not do an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-swarms are activated in top-level Swarm and then schedules in each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38680" y="2209680"/>
            <a:ext cx="2975040" cy="144792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96080" y="2666880"/>
            <a:ext cx="650880" cy="657360"/>
            <a:chOff x="7696080" y="2666880"/>
            <a:chExt cx="650880" cy="657360"/>
          </a:xfrm>
        </p:grpSpPr>
        <p:sp>
          <p:nvSpPr>
            <p:cNvPr id="288" name=""/>
            <p:cNvSpPr/>
            <p:nvPr/>
          </p:nvSpPr>
          <p:spPr>
            <a:xfrm>
              <a:off x="7696080" y="2673360"/>
              <a:ext cx="650880" cy="65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11800" y="2666880"/>
              <a:ext cx="308160" cy="34128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419720" y="4038480"/>
            <a:ext cx="2501640" cy="11271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41840" y="444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441972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38680" y="44956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920" y="464832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4267080"/>
            <a:ext cx="137880" cy="1335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10080" y="4952880"/>
            <a:ext cx="2502000" cy="11620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556272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57150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10280" y="571500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53341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29400" y="55627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754520" y="31827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15240" y="3182760"/>
            <a:ext cx="1584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4120" y="4876920"/>
            <a:ext cx="759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85880" y="419112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41960" y="320040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35360" y="44578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266688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26668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391520" y="289548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29400" y="29718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38880" y="24382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33760" y="4876560"/>
            <a:ext cx="14475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51055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27840" y="51166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04600" y="563868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04800" y="1828800"/>
            <a:ext cx="161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06" idx="1"/>
            <a:endCxn id="291" idx="1"/>
          </p:cNvCxnSpPr>
          <p:nvPr/>
        </p:nvCxnSpPr>
        <p:spPr>
          <a:xfrm flipH="1" flipV="1" rot="10800000">
            <a:off x="4343040" y="3427920"/>
            <a:ext cx="364320" cy="1083240"/>
          </a:xfrm>
          <a:prstGeom prst="curvedConnector5">
            <a:avLst>
              <a:gd name="adj1" fmla="val -62809"/>
              <a:gd name="adj2" fmla="val 28789"/>
              <a:gd name="adj3" fmla="val -628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BF12-90E1-418B-978A-CA4397836D9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8A6A7A-E0CC-406E-86D7-DD0D226113A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ng Schedules &amp;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59400" y="21337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2133720"/>
            <a:ext cx="502920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display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33920" y="4648320"/>
            <a:ext cx="5105160" cy="15238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33920" y="2590920"/>
            <a:ext cx="5105160" cy="1904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2133720"/>
            <a:ext cx="5105160" cy="3808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4800600"/>
            <a:ext cx="1905120" cy="9907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5181480"/>
            <a:ext cx="139680" cy="1396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288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5334120"/>
            <a:ext cx="13968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00200" y="4952880"/>
            <a:ext cx="138240" cy="138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0" y="495288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0" y="4952880"/>
            <a:ext cx="324000" cy="22248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3124080"/>
            <a:ext cx="1905120" cy="9907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327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3276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09840" y="2019240"/>
            <a:ext cx="914400" cy="68580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335268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342900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6" idx="2"/>
            <a:endCxn id="333" idx="0"/>
          </p:cNvCxnSpPr>
          <p:nvPr/>
        </p:nvCxnSpPr>
        <p:spPr>
          <a:xfrm>
            <a:off x="1966680" y="2666880"/>
            <a:ext cx="52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3" idx="4"/>
            <a:endCxn id="325" idx="0"/>
          </p:cNvCxnSpPr>
          <p:nvPr/>
        </p:nvCxnSpPr>
        <p:spPr>
          <a:xfrm>
            <a:off x="2018880" y="411444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"/>
          <p:cNvSpPr/>
          <p:nvPr/>
        </p:nvSpPr>
        <p:spPr>
          <a:xfrm>
            <a:off x="2287080" y="4038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720" y="57913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9EB9-89F7-492F-9041-C0909847EEE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ECA647-158C-4D29-A4D5-084780A1B70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n Swarm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: Lists, Arrays, Sorted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: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: Graphs, Histograms and data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: Lattic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: Schedules and Activity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5C5C-F5AB-4478-AD67-FFB29EB36CB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FE7FE4-8999-4F1B-B481-A169DE48DAD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Random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ndom library can be divided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initSwarm in main creates a default generator and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43400" y="320040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625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386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0804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45" idx="1"/>
            <a:endCxn id="346" idx="0"/>
          </p:cNvCxnSpPr>
          <p:nvPr/>
        </p:nvCxnSpPr>
        <p:spPr>
          <a:xfrm flipV="1" rot="10800000">
            <a:off x="4228560" y="370008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5" idx="3"/>
            <a:endCxn id="348" idx="0"/>
          </p:cNvCxnSpPr>
          <p:nvPr/>
        </p:nvCxnSpPr>
        <p:spPr>
          <a:xfrm>
            <a:off x="5790960" y="370044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2" name=""/>
          <p:cNvSpPr/>
          <p:nvPr/>
        </p:nvSpPr>
        <p:spPr>
          <a:xfrm>
            <a:off x="6934320" y="32004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30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629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296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9860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52" idx="1"/>
            <a:endCxn id="353" idx="0"/>
          </p:cNvCxnSpPr>
          <p:nvPr/>
        </p:nvCxnSpPr>
        <p:spPr>
          <a:xfrm flipV="1" rot="10800000">
            <a:off x="6819120" y="370008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52" idx="3"/>
            <a:endCxn id="355" idx="0"/>
          </p:cNvCxnSpPr>
          <p:nvPr/>
        </p:nvCxnSpPr>
        <p:spPr>
          <a:xfrm>
            <a:off x="8381880" y="370044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5638680" y="1981080"/>
            <a:ext cx="1447920" cy="10051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59" idx="1"/>
            <a:endCxn id="345" idx="0"/>
          </p:cNvCxnSpPr>
          <p:nvPr/>
        </p:nvCxnSpPr>
        <p:spPr>
          <a:xfrm flipV="1" rot="10800000">
            <a:off x="5066640" y="2483280"/>
            <a:ext cx="5720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59" idx="3"/>
            <a:endCxn id="352" idx="0"/>
          </p:cNvCxnSpPr>
          <p:nvPr/>
        </p:nvCxnSpPr>
        <p:spPr>
          <a:xfrm>
            <a:off x="7086600" y="2484000"/>
            <a:ext cx="57240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45" idx="2"/>
            <a:endCxn id="347" idx="0"/>
          </p:cNvCxnSpPr>
          <p:nvPr/>
        </p:nvCxnSpPr>
        <p:spPr>
          <a:xfrm flipH="1">
            <a:off x="483804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52" idx="2"/>
            <a:endCxn id="354" idx="0"/>
          </p:cNvCxnSpPr>
          <p:nvPr/>
        </p:nvCxnSpPr>
        <p:spPr>
          <a:xfrm flipH="1">
            <a:off x="742896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1CE8-EEBE-4B10-AA50-4BB3B3DB1C1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EFB05C-B3C9-448E-9EEC-D4178D5C19E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le of using Random li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raw random numbers from a distribution you’ll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enerator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provide random seed - an integer number which primes the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ributio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19920" y="25146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19920" y="403848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85480" y="2779560"/>
            <a:ext cx="9352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5410080"/>
            <a:ext cx="38098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equence of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6" idx="2"/>
            <a:endCxn id="367" idx="0"/>
          </p:cNvCxnSpPr>
          <p:nvPr/>
        </p:nvCxnSpPr>
        <p:spPr>
          <a:xfrm>
            <a:off x="6743520" y="3514320"/>
            <a:ext cx="108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68" idx="3"/>
            <a:endCxn id="366" idx="1"/>
          </p:cNvCxnSpPr>
          <p:nvPr/>
        </p:nvCxnSpPr>
        <p:spPr>
          <a:xfrm>
            <a:off x="5726160" y="3013200"/>
            <a:ext cx="294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70572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BA34-E259-4B54-9CB0-6FFE7332AD7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AB04BA-7FBD-4082-A61A-A25565A61F4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alling initSwarm in main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 default distribu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generated, fed by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ault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’t control this generator’s seed, but can give command line ar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ySeed: New seed ever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always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19720" y="327672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324480" y="2133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24480" y="3276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4480" y="4419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5" idx="0"/>
            <a:endCxn id="376" idx="1"/>
          </p:cNvCxnSpPr>
          <p:nvPr/>
        </p:nvCxnSpPr>
        <p:spPr>
          <a:xfrm flipH="1" flipV="1" rot="5400000">
            <a:off x="5412600" y="2364840"/>
            <a:ext cx="643320" cy="118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5" idx="0"/>
            <a:endCxn id="377" idx="1"/>
          </p:cNvCxnSpPr>
          <p:nvPr/>
        </p:nvCxnSpPr>
        <p:spPr>
          <a:xfrm flipH="1" rot="16200000">
            <a:off x="5483880" y="2935080"/>
            <a:ext cx="500760" cy="1181520"/>
          </a:xfrm>
          <a:prstGeom prst="bentConnector4">
            <a:avLst>
              <a:gd name="adj1" fmla="val -45683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75" idx="0"/>
            <a:endCxn id="378" idx="1"/>
          </p:cNvCxnSpPr>
          <p:nvPr/>
        </p:nvCxnSpPr>
        <p:spPr>
          <a:xfrm flipH="1" rot="16200000">
            <a:off x="4912560" y="3507480"/>
            <a:ext cx="1643760" cy="1181520"/>
          </a:xfrm>
          <a:prstGeom prst="bentConnector4">
            <a:avLst>
              <a:gd name="adj1" fmla="val -13910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4B2F-155A-4322-B4F4-A073358CF81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BCAE53-97B5-44C1-A084-05F1F7E6AC6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distributions are glob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all any distribution from any ag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feed own distribution from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double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Dbl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withMax: 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integer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IntRand getInteger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withMax: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D335-79D5-4353-8C0B-99DFDC11503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3C19D7-DC8B-4B1E-BC3B-6D7CC43E7C7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477120" y="2411280"/>
            <a:ext cx="182880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andom Number Gen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s can’t create real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generators represent a large number of studies of pseudo RN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of thumb: Choose well tested generator which has a long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00600" y="2487240"/>
            <a:ext cx="1752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MR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T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3M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4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8600" y="2438280"/>
            <a:ext cx="150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M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F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76920" y="205740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02040" y="1981080"/>
            <a:ext cx="39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s in Swarm li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5B7E-9458-4BE8-A7FD-CD3882EE4115}" type="slidenum">
              <a:t>2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505358-A9B6-4CC7-8726-DB7EBE0BC4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need setGen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Bernoul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Probability: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Normal/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Variance, 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Alpha, setB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9140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rnoulli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nenti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mma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Bit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Double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Integer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Unsigned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98FC-1DDF-4EEB-936F-668BCBB8FEBA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1C954B-44BC-4725-94D1-F519B88E519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Probe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31240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62720" y="3276720"/>
            <a:ext cx="1454040" cy="1009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5627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629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62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3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29000" y="2057400"/>
            <a:ext cx="1454040" cy="1006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402" idx="1"/>
            <a:endCxn id="395" idx="0"/>
          </p:cNvCxnSpPr>
          <p:nvPr/>
        </p:nvCxnSpPr>
        <p:spPr>
          <a:xfrm flipV="1" rot="10800000">
            <a:off x="2098080" y="2559600"/>
            <a:ext cx="133092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402" idx="3"/>
            <a:endCxn id="396" idx="0"/>
          </p:cNvCxnSpPr>
          <p:nvPr/>
        </p:nvCxnSpPr>
        <p:spPr>
          <a:xfrm>
            <a:off x="4882680" y="2560320"/>
            <a:ext cx="14072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5" idx="1"/>
            <a:endCxn id="401" idx="0"/>
          </p:cNvCxnSpPr>
          <p:nvPr/>
        </p:nvCxnSpPr>
        <p:spPr>
          <a:xfrm flipV="1" rot="10800000">
            <a:off x="1259640" y="3628080"/>
            <a:ext cx="11196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6" name=""/>
          <p:cNvCxnSpPr>
            <a:stCxn id="395" idx="3"/>
            <a:endCxn id="400" idx="0"/>
          </p:cNvCxnSpPr>
          <p:nvPr/>
        </p:nvCxnSpPr>
        <p:spPr>
          <a:xfrm>
            <a:off x="2825280" y="3628800"/>
            <a:ext cx="18828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396" idx="1"/>
            <a:endCxn id="399" idx="0"/>
          </p:cNvCxnSpPr>
          <p:nvPr/>
        </p:nvCxnSpPr>
        <p:spPr>
          <a:xfrm flipV="1" rot="10800000">
            <a:off x="4688640" y="3781080"/>
            <a:ext cx="87408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396" idx="3"/>
            <a:endCxn id="398" idx="0"/>
          </p:cNvCxnSpPr>
          <p:nvPr/>
        </p:nvCxnSpPr>
        <p:spPr>
          <a:xfrm>
            <a:off x="7016400" y="3781440"/>
            <a:ext cx="87372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396" idx="2"/>
            <a:endCxn id="397" idx="0"/>
          </p:cNvCxnSpPr>
          <p:nvPr/>
        </p:nvCxnSpPr>
        <p:spPr>
          <a:xfrm flipV="1" rot="10800000">
            <a:off x="6288840" y="4285800"/>
            <a:ext cx="1080" cy="210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7010280" y="1981080"/>
            <a:ext cx="145440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AF9E-1E3C-4A54-8BA4-702BB89557A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959556-DCC9-41E0-97F1-83F5F934E1E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5220-C877-4F46-BF3F-D65D5F00AE9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613E66-6AF6-4375-B2A4-E2BB73D15ED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ical probes to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the Empty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DisplayManager  asked to create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63960" y="46483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22" idx="0"/>
            <a:endCxn id="417" idx="2"/>
          </p:cNvCxnSpPr>
          <p:nvPr/>
        </p:nvCxnSpPr>
        <p:spPr>
          <a:xfrm flipH="1" flipV="1" rot="5400000">
            <a:off x="4425480" y="4349520"/>
            <a:ext cx="572400" cy="25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22" idx="2"/>
            <a:endCxn id="420" idx="4"/>
          </p:cNvCxnSpPr>
          <p:nvPr/>
        </p:nvCxnSpPr>
        <p:spPr>
          <a:xfrm flipH="1" flipV="1" rot="5400000">
            <a:off x="5073480" y="3968280"/>
            <a:ext cx="762840" cy="1512000"/>
          </a:xfrm>
          <a:prstGeom prst="curvedConnector5">
            <a:avLst>
              <a:gd name="adj1" fmla="val -29981"/>
              <a:gd name="adj2" fmla="val 49988"/>
              <a:gd name="adj3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5" name=""/>
          <p:cNvCxnSpPr>
            <a:stCxn id="432" idx="2"/>
            <a:endCxn id="424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4192200" y="19810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FD36-ACFA-4543-9FCD-18743F43285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9B063F-5EC6-48CA-B63D-38E1579EF69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 for 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EmptyProbeMap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”someVar"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agent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 getProbeForMessage: ”someMessage"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nClass: [agent class]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HideResult: 1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DisplayManager createProbeDisplayFor: modelSwarm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1600200"/>
            <a:ext cx="8001000" cy="40384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5715000"/>
            <a:ext cx="800100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07D3-BA97-41BA-A4CF-D385064F232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79E01F-A237-4419-A1CC-E76466A1076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br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486400"/>
            <a:ext cx="83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It is actually impossible to draw the class hierarchy because some of the lib directories contain classes from different bra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1752480"/>
            <a:ext cx="1316160" cy="91152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4572000"/>
            <a:ext cx="1316160" cy="911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4572000"/>
            <a:ext cx="1316160" cy="915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3048120"/>
            <a:ext cx="1315800" cy="911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572000"/>
            <a:ext cx="131616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457200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572000"/>
            <a:ext cx="1316160" cy="90792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3048120"/>
            <a:ext cx="131580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304812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47" idx="3"/>
            <a:endCxn id="55" idx="0"/>
          </p:cNvCxnSpPr>
          <p:nvPr/>
        </p:nvCxnSpPr>
        <p:spPr>
          <a:xfrm>
            <a:off x="6040080" y="2207880"/>
            <a:ext cx="2010600" cy="840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371600" y="1752480"/>
            <a:ext cx="1316160" cy="91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7" idx="1"/>
            <a:endCxn id="57" idx="3"/>
          </p:cNvCxnSpPr>
          <p:nvPr/>
        </p:nvCxnSpPr>
        <p:spPr>
          <a:xfrm rot="10800000">
            <a:off x="2687040" y="2207520"/>
            <a:ext cx="2037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2"/>
            <a:endCxn id="52" idx="0"/>
          </p:cNvCxnSpPr>
          <p:nvPr/>
        </p:nvCxnSpPr>
        <p:spPr>
          <a:xfrm>
            <a:off x="8049960" y="3959280"/>
            <a:ext cx="108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4" idx="2"/>
            <a:endCxn id="51" idx="0"/>
          </p:cNvCxnSpPr>
          <p:nvPr/>
        </p:nvCxnSpPr>
        <p:spPr>
          <a:xfrm rot="5400000">
            <a:off x="2409120" y="2589120"/>
            <a:ext cx="613440" cy="33537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3" idx="0"/>
          </p:cNvCxnSpPr>
          <p:nvPr/>
        </p:nvCxnSpPr>
        <p:spPr>
          <a:xfrm flipH="1" rot="16200000">
            <a:off x="4467240" y="3884400"/>
            <a:ext cx="613440" cy="7624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4" idx="2"/>
            <a:endCxn id="49" idx="0"/>
          </p:cNvCxnSpPr>
          <p:nvPr/>
        </p:nvCxnSpPr>
        <p:spPr>
          <a:xfrm rot="5400000">
            <a:off x="3094920" y="3274920"/>
            <a:ext cx="613440" cy="19821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4" idx="2"/>
            <a:endCxn id="48" idx="0"/>
          </p:cNvCxnSpPr>
          <p:nvPr/>
        </p:nvCxnSpPr>
        <p:spPr>
          <a:xfrm rot="5400000">
            <a:off x="3780720" y="3960720"/>
            <a:ext cx="613440" cy="6105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7" idx="2"/>
            <a:endCxn id="54" idx="0"/>
          </p:cNvCxnSpPr>
          <p:nvPr/>
        </p:nvCxnSpPr>
        <p:spPr>
          <a:xfrm rot="5400000">
            <a:off x="4695120" y="2360520"/>
            <a:ext cx="384840" cy="9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7" idx="2"/>
            <a:endCxn id="50" idx="0"/>
          </p:cNvCxnSpPr>
          <p:nvPr/>
        </p:nvCxnSpPr>
        <p:spPr>
          <a:xfrm flipH="1" rot="16200000">
            <a:off x="5609160" y="2436480"/>
            <a:ext cx="384840" cy="839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5867280" y="4572000"/>
            <a:ext cx="1316160" cy="909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4" idx="2"/>
            <a:endCxn id="66" idx="0"/>
          </p:cNvCxnSpPr>
          <p:nvPr/>
        </p:nvCxnSpPr>
        <p:spPr>
          <a:xfrm flipH="1" rot="16200000">
            <a:off x="5153040" y="3198600"/>
            <a:ext cx="613440" cy="21340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533520" y="3048120"/>
            <a:ext cx="131580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3048120"/>
            <a:ext cx="131616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57" idx="2"/>
            <a:endCxn id="68" idx="0"/>
          </p:cNvCxnSpPr>
          <p:nvPr/>
        </p:nvCxnSpPr>
        <p:spPr>
          <a:xfrm rot="5400000">
            <a:off x="1418760" y="243684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7" idx="2"/>
            <a:endCxn id="69" idx="0"/>
          </p:cNvCxnSpPr>
          <p:nvPr/>
        </p:nvCxnSpPr>
        <p:spPr>
          <a:xfrm flipH="1" rot="16200000">
            <a:off x="2257200" y="243648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3BC3-53C7-4E04-A963-10C1EC6FE40B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2158D4-B0F9-48CB-A667-612319DC3B3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ses for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dynamic message calling where message is chosen at runtim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MessageProb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heProbe setProbedSelector: theSelector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theProb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Index=[aCollection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(aMember=[anIndex next]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Data=[theProbe doubleDynamicCallOn: aMember]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elf doSomething: theDat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n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47640" y="3048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7640" y="4191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C77B-A61E-4A18-903A-2A5704C1BD0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44392C-64E3-4DC9-A1DF-DE163D4B74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nalysis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thers and displays data on line gra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same for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phs y values of function over range of x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r,Entropy and EZ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ect statistics from collection of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281560" y="3975120"/>
            <a:ext cx="1052640" cy="671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910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431040" y="397512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248520" y="2057400"/>
            <a:ext cx="1052280" cy="669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62960" y="3970440"/>
            <a:ext cx="1052280" cy="669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431040" y="490860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086600" y="2895480"/>
            <a:ext cx="1052640" cy="67176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"/>
          <p:cNvCxnSpPr>
            <a:stCxn id="453" idx="2"/>
            <a:endCxn id="447" idx="0"/>
          </p:cNvCxnSpPr>
          <p:nvPr/>
        </p:nvCxnSpPr>
        <p:spPr>
          <a:xfrm rot="5400000">
            <a:off x="6506640" y="2868480"/>
            <a:ext cx="408600" cy="1805760"/>
          </a:xfrm>
          <a:prstGeom prst="bentConnector3">
            <a:avLst>
              <a:gd name="adj1" fmla="val 497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"/>
          <p:cNvCxnSpPr/>
          <p:nvPr/>
        </p:nvCxnSpPr>
        <p:spPr>
          <a:xfrm flipH="1" rot="16200000">
            <a:off x="7699320" y="3494520"/>
            <a:ext cx="403920" cy="577080"/>
          </a:xfrm>
          <a:prstGeom prst="bentConnector3">
            <a:avLst>
              <a:gd name="adj1" fmla="val 468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6" name=""/>
          <p:cNvCxnSpPr>
            <a:stCxn id="449" idx="2"/>
            <a:endCxn id="452" idx="0"/>
          </p:cNvCxnSpPr>
          <p:nvPr/>
        </p:nvCxnSpPr>
        <p:spPr>
          <a:xfrm>
            <a:off x="6955920" y="4647960"/>
            <a:ext cx="108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7" name=""/>
          <p:cNvCxnSpPr>
            <a:stCxn id="450" idx="1"/>
            <a:endCxn id="448" idx="0"/>
          </p:cNvCxnSpPr>
          <p:nvPr/>
        </p:nvCxnSpPr>
        <p:spPr>
          <a:xfrm flipV="1" rot="10800000">
            <a:off x="5117400" y="2391840"/>
            <a:ext cx="113112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8" name=""/>
          <p:cNvCxnSpPr>
            <a:stCxn id="450" idx="3"/>
            <a:endCxn id="453" idx="0"/>
          </p:cNvCxnSpPr>
          <p:nvPr/>
        </p:nvCxnSpPr>
        <p:spPr>
          <a:xfrm>
            <a:off x="7300440" y="2392200"/>
            <a:ext cx="31356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9" name=""/>
          <p:cNvSpPr/>
          <p:nvPr/>
        </p:nvSpPr>
        <p:spPr>
          <a:xfrm>
            <a:off x="58672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50" idx="2"/>
            <a:endCxn id="459" idx="0"/>
          </p:cNvCxnSpPr>
          <p:nvPr/>
        </p:nvCxnSpPr>
        <p:spPr>
          <a:xfrm rot="5400000">
            <a:off x="6500160" y="2620440"/>
            <a:ext cx="168840" cy="381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61" name=""/>
          <p:cNvSpPr/>
          <p:nvPr/>
        </p:nvSpPr>
        <p:spPr>
          <a:xfrm>
            <a:off x="693432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8AF6-8347-4157-9798-B1E9D24B593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77F905-A04B-4558-B62A-179D362256E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Graph is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creation and setup to be achieved in one fell sw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setting title and labels must add one or more 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AxisLabelsX: str Y: s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Add sequence(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feed from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feed from coll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Sequence Total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Sequence MaxSequ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1C4F-6C1D-4F62-AE38-99DED5A57D51}" type="slidenum">
              <a:t>3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BD1896-D1D5-468D-BAAB-596DF76E1AE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ezgraph" descr=""/>
          <p:cNvPicPr/>
          <p:nvPr/>
        </p:nvPicPr>
        <p:blipFill>
          <a:blip r:embed="rId1"/>
          <a:stretch/>
        </p:blipFill>
        <p:spPr>
          <a:xfrm>
            <a:off x="663480" y="1895400"/>
            <a:ext cx="3886200" cy="26100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3884760" y="3203640"/>
            <a:ext cx="4398840" cy="247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quence with feed from collection is creat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cre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quenc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thFeedFrom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dSelector: 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ne of Average, Total, Min, Max or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651720" y="3921120"/>
            <a:ext cx="1251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9" name=""/>
          <p:cNvCxnSpPr/>
          <p:nvPr/>
        </p:nvCxnSpPr>
        <p:spPr>
          <a:xfrm flipV="1" rot="16200000">
            <a:off x="5421240" y="1740600"/>
            <a:ext cx="1197360" cy="3162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0" name=""/>
          <p:cNvCxnSpPr>
            <a:stCxn id="467" idx="1"/>
          </p:cNvCxnSpPr>
          <p:nvPr/>
        </p:nvCxnSpPr>
        <p:spPr>
          <a:xfrm rot="10800000">
            <a:off x="2733120" y="3714120"/>
            <a:ext cx="1151640" cy="727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1" name=""/>
          <p:cNvCxnSpPr/>
          <p:nvPr/>
        </p:nvCxnSpPr>
        <p:spPr>
          <a:xfrm flipV="1" rot="10800000">
            <a:off x="2380680" y="2160360"/>
            <a:ext cx="2286720" cy="2069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2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3" name=""/>
          <p:cNvCxnSpPr>
            <a:stCxn id="472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4" name=""/>
          <p:cNvSpPr/>
          <p:nvPr/>
        </p:nvSpPr>
        <p:spPr>
          <a:xfrm>
            <a:off x="4197600" y="177480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AE25-6DA5-4D88-975A-5A3E4E2D1613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B91129-4E86-44B0-9DA2-AFE53C11CCA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Bin, is also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ype of graph needs to be told the number of bins for histogram and interval in which values l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3815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Collection: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setProbedSelector:M(meth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setBinNum: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setUpperBound:  and setLowerB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A323-3081-4BE8-985B-6D265088D8B1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8BC1E0-BA06-41D9-A2FC-437CF8D50BC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ezbin" descr=""/>
          <p:cNvPicPr/>
          <p:nvPr/>
        </p:nvPicPr>
        <p:blipFill>
          <a:blip r:embed="rId1"/>
          <a:stretch/>
        </p:blipFill>
        <p:spPr>
          <a:xfrm>
            <a:off x="552600" y="1957320"/>
            <a:ext cx="3886200" cy="26384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3846600" y="4842000"/>
            <a:ext cx="4551120" cy="1435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s fed into Histogram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Collection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ProbedSelector: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2" name=""/>
          <p:cNvCxnSpPr>
            <a:stCxn id="481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3816360" y="398448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83" idx="1"/>
          </p:cNvCxnSpPr>
          <p:nvPr/>
        </p:nvCxnSpPr>
        <p:spPr>
          <a:xfrm flipV="1" rot="10800000">
            <a:off x="2552040" y="4370040"/>
            <a:ext cx="1257840" cy="7848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3813120" y="2308320"/>
            <a:ext cx="4929480" cy="1435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bins is determin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NumBins: 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range of value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UpperBound: -setLowerBou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85" idx="1"/>
          </p:cNvCxnSpPr>
          <p:nvPr/>
        </p:nvCxnSpPr>
        <p:spPr>
          <a:xfrm flipV="1" rot="10800000">
            <a:off x="2628360" y="3027960"/>
            <a:ext cx="118476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B4B2-C133-40F9-9BEC-EA0C0BCDCAD8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69768F-EB12-4C7E-8433-D42432EB2AA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tility objects in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 entropy assuming data is prob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 of EZBin, gives acces to underlying distribution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33F2-24F1-43C2-A144-3A4F9F5D92E1}" type="slidenum">
              <a:t>3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0AE306-CF2F-4420-9CC8-40F13B38527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4952880" y="1828800"/>
            <a:ext cx="35053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1828800"/>
            <a:ext cx="4114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ster and Object2d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33520" y="2209680"/>
            <a:ext cx="1676160" cy="1752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81480" y="1981080"/>
            <a:ext cx="1752840" cy="15242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00200" y="3124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914400" y="2438280"/>
            <a:ext cx="30492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"/>
          <p:cNvCxnSpPr>
            <a:stCxn id="494" idx="1"/>
            <a:endCxn id="498" idx="5"/>
          </p:cNvCxnSpPr>
          <p:nvPr/>
        </p:nvCxnSpPr>
        <p:spPr>
          <a:xfrm flipV="1" rot="10800000">
            <a:off x="4237920" y="2742840"/>
            <a:ext cx="943560" cy="658080"/>
          </a:xfrm>
          <a:prstGeom prst="bentConnector4">
            <a:avLst>
              <a:gd name="adj1" fmla="val 36335"/>
              <a:gd name="adj2" fmla="val 173891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499" name=""/>
          <p:cNvSpPr/>
          <p:nvPr/>
        </p:nvSpPr>
        <p:spPr>
          <a:xfrm>
            <a:off x="841320" y="3429000"/>
            <a:ext cx="1128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9400" y="3249720"/>
            <a:ext cx="1671480" cy="1191240"/>
          </a:xfrm>
          <a:prstGeom prst="borderCallout1">
            <a:avLst>
              <a:gd name="adj1" fmla="val 18750"/>
              <a:gd name="adj2" fmla="val -8333"/>
              <a:gd name="adj3" fmla="val -33712"/>
              <a:gd name="adj4" fmla="val -277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819520" y="37339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953600" y="472428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34240" y="47242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65040" y="5272200"/>
            <a:ext cx="83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purpose of Object2dDisplay to catch messages from Raster widget on a mouse-click. It then opens up a probe to the object that at this  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stCxn id="498" idx="2"/>
            <a:endCxn id="493" idx="3"/>
          </p:cNvCxnSpPr>
          <p:nvPr/>
        </p:nvCxnSpPr>
        <p:spPr>
          <a:xfrm flipV="1" rot="10800000">
            <a:off x="2208960" y="2780280"/>
            <a:ext cx="534240" cy="305640"/>
          </a:xfrm>
          <a:prstGeom prst="bentConnector3">
            <a:avLst>
              <a:gd name="adj1" fmla="val 49966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stCxn id="501" idx="2"/>
            <a:endCxn id="493" idx="2"/>
          </p:cNvCxnSpPr>
          <p:nvPr/>
        </p:nvCxnSpPr>
        <p:spPr>
          <a:xfrm rot="10800000">
            <a:off x="1370880" y="3961800"/>
            <a:ext cx="1448640" cy="45792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507" name=""/>
          <p:cNvSpPr/>
          <p:nvPr/>
        </p:nvSpPr>
        <p:spPr>
          <a:xfrm>
            <a:off x="5410080" y="3048120"/>
            <a:ext cx="99072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8492-154B-44D4-8C4A-25F1BB59AAE2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C161DF-3783-4165-AB52-078E398F934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8" name=""/>
          <p:cNvCxnSpPr>
            <a:stCxn id="509" idx="3"/>
            <a:endCxn id="510" idx="2"/>
          </p:cNvCxnSpPr>
          <p:nvPr/>
        </p:nvCxnSpPr>
        <p:spPr>
          <a:xfrm>
            <a:off x="4723920" y="2971800"/>
            <a:ext cx="877320" cy="381600"/>
          </a:xfrm>
          <a:prstGeom prst="curvedConnector5">
            <a:avLst>
              <a:gd name="adj1" fmla="val 17364"/>
              <a:gd name="adj2" fmla="val 79981"/>
              <a:gd name="adj3" fmla="val 17364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11" name=""/>
          <p:cNvCxnSpPr>
            <a:stCxn id="509" idx="3"/>
            <a:endCxn id="512" idx="2"/>
          </p:cNvCxnSpPr>
          <p:nvPr/>
        </p:nvCxnSpPr>
        <p:spPr>
          <a:xfrm>
            <a:off x="4723920" y="2971800"/>
            <a:ext cx="2248920" cy="381600"/>
          </a:xfrm>
          <a:prstGeom prst="curvedConnector5">
            <a:avLst>
              <a:gd name="adj1" fmla="val 37271"/>
              <a:gd name="adj2" fmla="val 79981"/>
              <a:gd name="adj3" fmla="val 37271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lasses in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58128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8128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81952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26708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053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505320" y="53341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0292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008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90512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1" name=""/>
          <p:cNvCxnSpPr>
            <a:stCxn id="514" idx="2"/>
            <a:endCxn id="509" idx="0"/>
          </p:cNvCxnSpPr>
          <p:nvPr/>
        </p:nvCxnSpPr>
        <p:spPr>
          <a:xfrm flipV="1" rot="10800000">
            <a:off x="4152240" y="24379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"/>
          <p:cNvCxnSpPr>
            <a:stCxn id="509" idx="1"/>
            <a:endCxn id="515" idx="0"/>
          </p:cNvCxnSpPr>
          <p:nvPr/>
        </p:nvCxnSpPr>
        <p:spPr>
          <a:xfrm flipV="1" rot="10800000">
            <a:off x="3390120" y="2971440"/>
            <a:ext cx="19116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"/>
          <p:cNvCxnSpPr>
            <a:stCxn id="509" idx="3"/>
            <a:endCxn id="516" idx="0"/>
          </p:cNvCxnSpPr>
          <p:nvPr/>
        </p:nvCxnSpPr>
        <p:spPr>
          <a:xfrm>
            <a:off x="4724280" y="297180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"/>
          <p:cNvCxnSpPr>
            <a:stCxn id="515" idx="1"/>
            <a:endCxn id="517" idx="0"/>
          </p:cNvCxnSpPr>
          <p:nvPr/>
        </p:nvCxnSpPr>
        <p:spPr>
          <a:xfrm flipV="1" rot="10800000">
            <a:off x="2704320" y="388584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15" idx="3"/>
            <a:endCxn id="518" idx="0"/>
          </p:cNvCxnSpPr>
          <p:nvPr/>
        </p:nvCxnSpPr>
        <p:spPr>
          <a:xfrm>
            <a:off x="3962160" y="3886200"/>
            <a:ext cx="11484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"/>
          <p:cNvCxnSpPr>
            <a:stCxn id="518" idx="2"/>
            <a:endCxn id="519" idx="0"/>
          </p:cNvCxnSpPr>
          <p:nvPr/>
        </p:nvCxnSpPr>
        <p:spPr>
          <a:xfrm>
            <a:off x="4076280" y="5181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0EA3-AEFC-4F93-B8C8-F98783B89CED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E37641-0C6D-4543-8BBA-1F9E7A778B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27" name=""/>
          <p:cNvCxnSpPr>
            <a:stCxn id="528" idx="3"/>
            <a:endCxn id="529" idx="2"/>
          </p:cNvCxnSpPr>
          <p:nvPr/>
        </p:nvCxnSpPr>
        <p:spPr>
          <a:xfrm>
            <a:off x="6325920" y="2928600"/>
            <a:ext cx="592920" cy="254520"/>
          </a:xfrm>
          <a:prstGeom prst="curvedConnector5">
            <a:avLst>
              <a:gd name="adj1" fmla="val 17132"/>
              <a:gd name="adj2" fmla="val 94900"/>
              <a:gd name="adj3" fmla="val 17132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30" name=""/>
          <p:cNvCxnSpPr>
            <a:stCxn id="528" idx="3"/>
            <a:endCxn id="531" idx="2"/>
          </p:cNvCxnSpPr>
          <p:nvPr/>
        </p:nvCxnSpPr>
        <p:spPr>
          <a:xfrm>
            <a:off x="6326280" y="2928600"/>
            <a:ext cx="1529280" cy="254520"/>
          </a:xfrm>
          <a:prstGeom prst="curvedConnector5">
            <a:avLst>
              <a:gd name="adj1" fmla="val 37273"/>
              <a:gd name="adj2" fmla="val 94900"/>
              <a:gd name="adj3" fmla="val 37273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32" name=""/>
          <p:cNvSpPr/>
          <p:nvPr/>
        </p:nvSpPr>
        <p:spPr>
          <a:xfrm>
            <a:off x="5551560" y="2057400"/>
            <a:ext cx="774720" cy="512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51560" y="2670120"/>
            <a:ext cx="774720" cy="515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035680" y="3287880"/>
            <a:ext cx="77292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14880" y="3287880"/>
            <a:ext cx="77184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0" y="3900600"/>
            <a:ext cx="7732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00800" y="3900600"/>
            <a:ext cx="7714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500800" y="4516560"/>
            <a:ext cx="7714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531120" y="2670120"/>
            <a:ext cx="7729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467480" y="2670120"/>
            <a:ext cx="7732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495680" y="2670120"/>
            <a:ext cx="7747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32" idx="2"/>
            <a:endCxn id="528" idx="0"/>
          </p:cNvCxnSpPr>
          <p:nvPr/>
        </p:nvCxnSpPr>
        <p:spPr>
          <a:xfrm flipV="1" rot="10800000">
            <a:off x="5936400" y="2569680"/>
            <a:ext cx="1080" cy="100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28" idx="1"/>
            <a:endCxn id="533" idx="0"/>
          </p:cNvCxnSpPr>
          <p:nvPr/>
        </p:nvCxnSpPr>
        <p:spPr>
          <a:xfrm flipV="1" rot="10800000">
            <a:off x="5422320" y="2929320"/>
            <a:ext cx="129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28" idx="3"/>
            <a:endCxn id="534" idx="0"/>
          </p:cNvCxnSpPr>
          <p:nvPr/>
        </p:nvCxnSpPr>
        <p:spPr>
          <a:xfrm>
            <a:off x="6325920" y="2930040"/>
            <a:ext cx="75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33" idx="1"/>
            <a:endCxn id="535" idx="0"/>
          </p:cNvCxnSpPr>
          <p:nvPr/>
        </p:nvCxnSpPr>
        <p:spPr>
          <a:xfrm flipV="1" rot="10800000">
            <a:off x="4957200" y="354312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33" idx="3"/>
            <a:endCxn id="536" idx="0"/>
          </p:cNvCxnSpPr>
          <p:nvPr/>
        </p:nvCxnSpPr>
        <p:spPr>
          <a:xfrm>
            <a:off x="5808600" y="354348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4" name=""/>
          <p:cNvCxnSpPr>
            <a:stCxn id="536" idx="2"/>
            <a:endCxn id="537" idx="0"/>
          </p:cNvCxnSpPr>
          <p:nvPr/>
        </p:nvCxnSpPr>
        <p:spPr>
          <a:xfrm>
            <a:off x="5886000" y="4416480"/>
            <a:ext cx="108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sic 2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basic 2d lattic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n’t allow you to overwrit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lBuffer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s go to a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updates all at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BA85-FC27-49D5-BEDF-1636D5EF216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3F9CE9-3B4E-48B4-80DC-1811050C1A1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se classes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752480"/>
            <a:ext cx="1490400" cy="103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4038480"/>
            <a:ext cx="1523880" cy="10573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895480"/>
            <a:ext cx="152388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5194440"/>
            <a:ext cx="1523880" cy="1054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167652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s, ActivityGroups  and Swa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39625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ing object’s state and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281952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number generators and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5105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b bag of various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1739880"/>
            <a:ext cx="1490760" cy="103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4025880"/>
            <a:ext cx="1524240" cy="1057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2882880"/>
            <a:ext cx="152424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5181480"/>
            <a:ext cx="1524240" cy="10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167652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, Lists and ordered Lists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3962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ical interface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2819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s information for 2D lattice or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105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er interface to graphs, calculate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C52A-2BC9-4A07-BEC0-ABB35EB69A91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F680A7-360A-4822-9613-BF08F8BCDD6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SizeX: i Y: 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he world siz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izeX, getSiz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the dimensions of th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lWithValue: val, fillWithObjec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same value or object at each 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Discrete2d: o  toFile: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a PGM formatted file and fills lattice with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pyDiscrete2d: a toDiscrete2d: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s lattice b with values from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0A6F-910A-43AE-ACD3-12E3A1E9D0B3}" type="slidenum">
              <a:t>4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6A7464-7871-4000-8CEF-79F71D801A4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ObjectAtX: 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object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ValueAtX: 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value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Object:o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obj at x,y and overwrite present ob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Value: v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val v at x,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976F-3C93-4E6F-A40D-5ACDCB77D291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FE4511-2179-433C-B3CD-B9C2AE9D004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lasses in Sim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/ Sa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s/Saves instance variable value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e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s N members from col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Sort for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Fi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e for opening outfiles C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s file and understand basic operations, getString, getInt, next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7D43-1413-49FC-8D99-80B996655536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0F164A-7C8D-4385-9849-0BC93E0DC31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File and In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idea that InFile opens file and “gets” strings and OutFile opens file and “puts”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can deal with any var type (only String and Int sh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ddition methods to insert delimiter (“tab”), skip line, go to next line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methods in In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Word: (char *) aWo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Int: (int *) anI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skip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Out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String: (char *) aSt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Int: (int) an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Tab: (char) aCh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New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6837-C2EA-4678-A244-533568EF26F8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83B3F0-2A50-46B9-9A8F-B477CC0C5A5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TkObjC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zeable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display of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hist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between integer values and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"/>
          <p:cNvCxnSpPr>
            <a:stCxn id="562" idx="1"/>
            <a:endCxn id="563" idx="0"/>
          </p:cNvCxnSpPr>
          <p:nvPr/>
        </p:nvCxnSpPr>
        <p:spPr>
          <a:xfrm flipV="1" rot="10800000">
            <a:off x="4870440" y="2829600"/>
            <a:ext cx="6210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3"/>
            <a:endCxn id="565" idx="0"/>
          </p:cNvCxnSpPr>
          <p:nvPr/>
        </p:nvCxnSpPr>
        <p:spPr>
          <a:xfrm>
            <a:off x="6543720" y="2830320"/>
            <a:ext cx="6228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6" name=""/>
          <p:cNvCxnSpPr>
            <a:stCxn id="562" idx="2"/>
            <a:endCxn id="567" idx="0"/>
          </p:cNvCxnSpPr>
          <p:nvPr/>
        </p:nvCxnSpPr>
        <p:spPr>
          <a:xfrm>
            <a:off x="6017760" y="31651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7" name=""/>
          <p:cNvSpPr/>
          <p:nvPr/>
        </p:nvSpPr>
        <p:spPr>
          <a:xfrm>
            <a:off x="549108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34340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640560" y="330840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91080" y="24955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91080" y="41227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9" name=""/>
          <p:cNvCxnSpPr/>
          <p:nvPr/>
        </p:nvCxnSpPr>
        <p:spPr>
          <a:xfrm>
            <a:off x="5638320" y="31237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0" name=""/>
          <p:cNvSpPr/>
          <p:nvPr/>
        </p:nvSpPr>
        <p:spPr>
          <a:xfrm>
            <a:off x="7516800" y="248904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42C9-2F25-499B-A87F-6ADA9BFED06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AF46AB-4567-4159-BE00-F380F3FCDAE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lat list of objects with random ac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ed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 is independen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is the member itsel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with fixed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205740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1" idx="1"/>
            <a:endCxn id="92" idx="0"/>
          </p:cNvCxnSpPr>
          <p:nvPr/>
        </p:nvCxnSpPr>
        <p:spPr>
          <a:xfrm flipV="1" rot="10800000">
            <a:off x="5218920" y="2437200"/>
            <a:ext cx="9532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1" idx="3"/>
            <a:endCxn id="94" idx="0"/>
          </p:cNvCxnSpPr>
          <p:nvPr/>
        </p:nvCxnSpPr>
        <p:spPr>
          <a:xfrm>
            <a:off x="7315200" y="2437920"/>
            <a:ext cx="87696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1" idx="2"/>
            <a:endCxn id="93" idx="0"/>
          </p:cNvCxnSpPr>
          <p:nvPr/>
        </p:nvCxnSpPr>
        <p:spPr>
          <a:xfrm>
            <a:off x="6743520" y="28195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3" idx="2"/>
            <a:endCxn id="95" idx="0"/>
          </p:cNvCxnSpPr>
          <p:nvPr/>
        </p:nvCxnSpPr>
        <p:spPr>
          <a:xfrm rot="5400000">
            <a:off x="6133320" y="3809880"/>
            <a:ext cx="534240" cy="6865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3" idx="2"/>
            <a:endCxn id="96" idx="0"/>
          </p:cNvCxnSpPr>
          <p:nvPr/>
        </p:nvCxnSpPr>
        <p:spPr>
          <a:xfrm flipH="1" rot="16200000">
            <a:off x="6858000" y="3771720"/>
            <a:ext cx="534240" cy="7624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3727-1299-4544-9789-88C76945D2C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F1C655-BC1A-4564-87BB-41B891E80AB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ollection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s number of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es member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i pu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s obj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First: o addLast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o at start/end of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First,get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1 if o is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object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Each:M(mess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message to all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First/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nd 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EDFD-6BC1-406E-AD79-3685691B08FA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8C523D-37B1-4391-A01F-7A96D650140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19720" y="3200400"/>
            <a:ext cx="4267080" cy="1981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ing Collections with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collection can generate an index of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ex behaves as an object, and understands messag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,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Next: o,findPrev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index to loop over all me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=[list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o=[index next]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lue=[o getValu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A98F-2BF9-4ED2-A1FB-1BC7CF85908C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F1397A-8DAF-4BE1-8B51-E7278EEE6F1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419720" y="2819520"/>
            <a:ext cx="4267080" cy="3047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use of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 use of a List instance is to keep track of agent popu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 create time Model initializes each agent and puts him on agentLi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agentList is then accessed by Schedule, GUI objects and so on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i=0;i&lt;numAgents;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=[Agent create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1: var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2: var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N: varN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gentList addLast: 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A1D1-EE09-4E3B-90BB-E1FA78C48E92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F92997-120B-43B7-AFF2-854DA417EA1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eyed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KeyedCollection if you want a List that is continously s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either have seperate key objects for each member (Map) or treat the members as keys (S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: You must provide the key objec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 key object knows how to respond to 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compare: obj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ethod call. It then retriev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value in obj and respond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ith {-1,0,1} depending 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it is &lt;, equal to, &gt; than ob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5507-6388-4FC9-94C2-3395BF99FCC4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6AA9B1-6660-4D98-BF20-8550F8994C4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2T02:00:03Z</dcterms:created>
  <dc:creator>Benedikt Stefansson</dc:creator>
  <dc:description/>
  <dc:language>en-US</dc:language>
  <cp:lastModifiedBy>Office</cp:lastModifiedBy>
  <cp:lastPrinted>1998-03-19T09:02:27Z</cp:lastPrinted>
  <dcterms:modified xsi:type="dcterms:W3CDTF">1999-04-02T03:37:47Z</dcterms:modified>
  <cp:revision>19</cp:revision>
  <dc:subject/>
  <dc:title>Agent Based Modeling in Swarm Lecture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warmfest99\tutorial9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