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67710-7B05-442E-95D8-E4418DCC2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04880" y="401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7A332-EA07-4F85-9E7D-20EFE6032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7560" y="186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04880" y="401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7560" y="401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2C4F5-D390-4400-8198-C910B5F16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32880" y="186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0520" y="186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04880" y="401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32880" y="401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0520" y="401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01578-3C00-4F71-B602-5801199C7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CF3E6-655A-47BD-88C0-4B56CF7F0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93F69-3D1C-4D0F-AEBC-26A3CB439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7560" y="18669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522D7-0041-427D-A148-82838A17F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4D5AA-B275-4DC0-98F6-A57F9E389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4C278-4835-4A02-8968-8D9650623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7560" y="18669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04880" y="401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EB637-9A5E-437E-AB59-FFB21D257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7560" y="186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7560" y="401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D19D4-CD02-4703-9AAA-AEE57F93C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7560" y="186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04880" y="401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00D56-922B-4B2B-9BB0-097B805CF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E44BC-C045-405F-9867-3CDC805C8BA0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EB545-D644-4DA6-8575-673A3BE159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warmfest ‘99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utor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ssion I: 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nedikt Stefans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benedikt@ucla.edu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face vs. implem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WATCHC1" descr=""/>
          <p:cNvPicPr/>
          <p:nvPr/>
        </p:nvPicPr>
        <p:blipFill>
          <a:blip r:embed="rId1"/>
          <a:stretch/>
        </p:blipFill>
        <p:spPr>
          <a:xfrm>
            <a:off x="3005280" y="1943280"/>
            <a:ext cx="3651120" cy="280008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419720" y="4813200"/>
            <a:ext cx="4152960" cy="1191240"/>
          </a:xfrm>
          <a:prstGeom prst="borderCallout1">
            <a:avLst>
              <a:gd name="adj1" fmla="val 18750"/>
              <a:gd name="adj2" fmla="val -8333"/>
              <a:gd name="adj3" fmla="val -104740"/>
              <a:gd name="adj4" fmla="val -5953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 only has to be familiar with the interface of an object, not it’s imple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66720" y="5052960"/>
            <a:ext cx="3029040" cy="825480"/>
          </a:xfrm>
          <a:prstGeom prst="borderCallout1">
            <a:avLst>
              <a:gd name="adj1" fmla="val 18750"/>
              <a:gd name="adj2" fmla="val -8333"/>
              <a:gd name="adj3" fmla="val -216171"/>
              <a:gd name="adj4" fmla="val 109162"/>
            </a:avLst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s hide their functions and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EB71D-FFE9-474D-A579-C6D2BF8F36AC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4FB49A-76D1-4A01-98ED-0D42D9E4066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terminolog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definition of an object and the object fac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er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class that an object inherits behavior and variables from (recursiv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class that inherits behavior and variables from a super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6704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 object (instance of a class) that has been created and exists i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ance var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variable available to all functions in an 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function. Can be called by sending message to an object of this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A1F31-9F45-4A5C-BFF4-075AF69DFDBF}" type="slidenum">
              <a:t>11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1CBA0A-3FC2-4BEE-A91F-8BCBC60DCF9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4746600" y="2035080"/>
            <a:ext cx="938160" cy="957240"/>
          </a:xfrm>
          <a:prstGeom prst="ellipse">
            <a:avLst/>
          </a:prstGeom>
          <a:solidFill>
            <a:srgbClr val="66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three principles of OO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caps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s hide their functions 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ethod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and data 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stance variable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method variabl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ch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ubclas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herits all variables of its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uper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lymorph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instances of same class, sharing behavior but not state or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908680" y="2035080"/>
            <a:ext cx="938160" cy="957240"/>
          </a:xfrm>
          <a:prstGeom prst="ellipse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499000" y="3476520"/>
            <a:ext cx="541440" cy="54144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200560" y="5576760"/>
            <a:ext cx="56376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637160" y="5283360"/>
            <a:ext cx="541440" cy="541080"/>
          </a:xfrm>
          <a:prstGeom prst="ellipse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986440" y="2540160"/>
            <a:ext cx="830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172120" y="5283360"/>
            <a:ext cx="541440" cy="541080"/>
          </a:xfrm>
          <a:prstGeom prst="ellipse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742000" y="5283360"/>
            <a:ext cx="541440" cy="541080"/>
          </a:xfrm>
          <a:prstGeom prst="ellipse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237360" y="5283360"/>
            <a:ext cx="541440" cy="541080"/>
          </a:xfrm>
          <a:prstGeom prst="ellipse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786720" y="5283360"/>
            <a:ext cx="541080" cy="541080"/>
          </a:xfrm>
          <a:prstGeom prst="ellipse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440400" y="4253040"/>
            <a:ext cx="541440" cy="54108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689360" y="4270320"/>
            <a:ext cx="541440" cy="54144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62" idx="4"/>
            <a:endCxn id="171" idx="0"/>
          </p:cNvCxnSpPr>
          <p:nvPr/>
        </p:nvCxnSpPr>
        <p:spPr>
          <a:xfrm rot="5400000">
            <a:off x="5238720" y="3738960"/>
            <a:ext cx="253080" cy="810360"/>
          </a:xfrm>
          <a:prstGeom prst="bentConnector3">
            <a:avLst>
              <a:gd name="adj1" fmla="val 4957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3" name=""/>
          <p:cNvCxnSpPr>
            <a:stCxn id="162" idx="4"/>
            <a:endCxn id="170" idx="0"/>
          </p:cNvCxnSpPr>
          <p:nvPr/>
        </p:nvCxnSpPr>
        <p:spPr>
          <a:xfrm flipH="1" rot="16200000">
            <a:off x="6122520" y="3664440"/>
            <a:ext cx="235800" cy="9421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74" name=""/>
          <p:cNvSpPr/>
          <p:nvPr/>
        </p:nvSpPr>
        <p:spPr>
          <a:xfrm>
            <a:off x="6270840" y="3527280"/>
            <a:ext cx="15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er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109640" y="4403880"/>
            <a:ext cx="157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319880" y="5264280"/>
            <a:ext cx="541440" cy="541080"/>
          </a:xfrm>
          <a:prstGeom prst="ellipse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853400" y="5264280"/>
            <a:ext cx="541440" cy="541080"/>
          </a:xfrm>
          <a:prstGeom prst="ellipse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089840" y="2035080"/>
            <a:ext cx="938160" cy="95724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167600" y="2540160"/>
            <a:ext cx="830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830840" y="2527200"/>
            <a:ext cx="830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1B2D2-8E5C-4131-B0DC-420F3FAB6407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946D1A-C370-4050-A05F-31BAEDD4A1B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e event simu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301760" y="2771640"/>
            <a:ext cx="990720" cy="2514600"/>
          </a:xfrm>
          <a:custGeom>
            <a:avLst/>
            <a:gdLst>
              <a:gd name="textAreaLeft" fmla="*/ 132480 w 990720"/>
              <a:gd name="textAreaRight" fmla="*/ 858240 w 990720"/>
              <a:gd name="textAreaTop" fmla="*/ 439920 h 2514600"/>
              <a:gd name="textAreaBottom" fmla="*/ 1823040 h 2514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rot="10899600">
            <a:off x="4077720" y="2585160"/>
            <a:ext cx="990360" cy="2590920"/>
          </a:xfrm>
          <a:custGeom>
            <a:avLst/>
            <a:gdLst>
              <a:gd name="textAreaLeft" fmla="*/ 132480 w 990360"/>
              <a:gd name="textAreaRight" fmla="*/ 857880 w 990360"/>
              <a:gd name="textAreaTop" fmla="*/ 453240 h 2590920"/>
              <a:gd name="textAreaBottom" fmla="*/ 1878480 h 2590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286000" y="1905120"/>
            <a:ext cx="1600200" cy="160020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68360" y="4062240"/>
            <a:ext cx="1600200" cy="160020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544840" y="2421000"/>
            <a:ext cx="247680" cy="627120"/>
          </a:xfrm>
          <a:custGeom>
            <a:avLst/>
            <a:gdLst>
              <a:gd name="textAreaLeft" fmla="*/ 33120 w 247680"/>
              <a:gd name="textAreaRight" fmla="*/ 214560 w 247680"/>
              <a:gd name="textAreaTop" fmla="*/ 109800 h 627120"/>
              <a:gd name="textAreaBottom" fmla="*/ 454680 h 6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rot="10899600">
            <a:off x="3433680" y="2362320"/>
            <a:ext cx="247680" cy="645840"/>
          </a:xfrm>
          <a:custGeom>
            <a:avLst/>
            <a:gdLst>
              <a:gd name="textAreaLeft" fmla="*/ 33120 w 247680"/>
              <a:gd name="textAreaRight" fmla="*/ 214560 w 247680"/>
              <a:gd name="textAreaTop" fmla="*/ 113040 h 645840"/>
              <a:gd name="textAreaBottom" fmla="*/ 468360 h 645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825640" y="2057400"/>
            <a:ext cx="398520" cy="3999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789280" y="2666880"/>
            <a:ext cx="398520" cy="40032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438280" y="4559400"/>
            <a:ext cx="247680" cy="627120"/>
          </a:xfrm>
          <a:custGeom>
            <a:avLst/>
            <a:gdLst>
              <a:gd name="textAreaLeft" fmla="*/ 33120 w 247680"/>
              <a:gd name="textAreaRight" fmla="*/ 214560 w 247680"/>
              <a:gd name="textAreaTop" fmla="*/ 109800 h 627120"/>
              <a:gd name="textAreaBottom" fmla="*/ 454680 h 6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rot="10899600">
            <a:off x="3294000" y="4501800"/>
            <a:ext cx="247680" cy="646200"/>
          </a:xfrm>
          <a:custGeom>
            <a:avLst/>
            <a:gdLst>
              <a:gd name="textAreaLeft" fmla="*/ 33120 w 247680"/>
              <a:gd name="textAreaRight" fmla="*/ 214560 w 247680"/>
              <a:gd name="textAreaTop" fmla="*/ 113040 h 646200"/>
              <a:gd name="textAreaBottom" fmla="*/ 468720 h 646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35280" y="4214880"/>
            <a:ext cx="398520" cy="3999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735280" y="4824360"/>
            <a:ext cx="398520" cy="3999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276880" y="1866960"/>
            <a:ext cx="3200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ulation proceeds in discrete time ste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action between agents or procedures within simulation may have own event schedu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86E5F-B1FF-47A6-BC0A-4D33B4BBFED8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90CFBB-827A-4D3A-97C6-C51DEB42016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ulation in procedural langu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t parameters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e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mestep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um_ag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ent-i-do-somet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w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562720" y="3362400"/>
            <a:ext cx="2819160" cy="1557000"/>
          </a:xfrm>
          <a:prstGeom prst="borderCallout1">
            <a:avLst>
              <a:gd name="adj1" fmla="val 18750"/>
              <a:gd name="adj2" fmla="val -8333"/>
              <a:gd name="adj3" fmla="val 30972"/>
              <a:gd name="adj4" fmla="val -1710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e must provide data structure to save agent’s state and implement behav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267080" y="2084400"/>
            <a:ext cx="4419720" cy="825480"/>
          </a:xfrm>
          <a:prstGeom prst="borderCallout1">
            <a:avLst>
              <a:gd name="adj1" fmla="val 18750"/>
              <a:gd name="adj2" fmla="val -8333"/>
              <a:gd name="adj3" fmla="val 61504"/>
              <a:gd name="adj4" fmla="val -44282"/>
            </a:avLst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lly set’s up data structures and support for 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809880" y="5105520"/>
            <a:ext cx="4445280" cy="825480"/>
          </a:xfrm>
          <a:prstGeom prst="borderCallout1">
            <a:avLst>
              <a:gd name="adj1" fmla="val 18750"/>
              <a:gd name="adj2" fmla="val -8333"/>
              <a:gd name="adj3" fmla="val -21444"/>
              <a:gd name="adj4" fmla="val -14282"/>
            </a:avLst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ementation of output often left to the program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3C167-1C03-43F7-9898-16E145759CE8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0D7149-4E2F-44AE-B2E5-B921667829B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500120" y="2822400"/>
            <a:ext cx="6597720" cy="3264120"/>
          </a:xfrm>
          <a:prstGeom prst="ellipse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(Swarm) OOP w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093760" y="3618000"/>
            <a:ext cx="935280" cy="93492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919080" y="2521080"/>
            <a:ext cx="1322640" cy="132228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657760" y="2990880"/>
            <a:ext cx="935280" cy="93492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27520" y="3794040"/>
            <a:ext cx="1180800" cy="265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016520" y="3200400"/>
            <a:ext cx="934920" cy="93492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rot="2218800">
            <a:off x="2655360" y="4475160"/>
            <a:ext cx="1181160" cy="264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556080" y="4549680"/>
            <a:ext cx="934920" cy="93528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7536200">
            <a:off x="5159880" y="4229640"/>
            <a:ext cx="1180800" cy="264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921200" y="4900680"/>
            <a:ext cx="934920" cy="93492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156360" y="4498920"/>
            <a:ext cx="619200" cy="706320"/>
          </a:xfrm>
          <a:prstGeom prst="rect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750000" y="3592440"/>
            <a:ext cx="619200" cy="706680"/>
          </a:xfrm>
          <a:prstGeom prst="rect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3" name=""/>
          <p:cNvCxnSpPr/>
          <p:nvPr/>
        </p:nvCxnSpPr>
        <p:spPr>
          <a:xfrm>
            <a:off x="2313000" y="3076200"/>
            <a:ext cx="1775520" cy="486360"/>
          </a:xfrm>
          <a:prstGeom prst="curvedConnector5">
            <a:avLst>
              <a:gd name="adj1" fmla="val 49989"/>
              <a:gd name="adj2" fmla="val 50000"/>
              <a:gd name="adj3" fmla="val 49989"/>
            </a:avLst>
          </a:prstGeom>
          <a:ln w="76320">
            <a:solidFill>
              <a:srgbClr val="00cc99"/>
            </a:solidFill>
            <a:miter/>
            <a:tailEnd len="med" type="triangle" w="med"/>
          </a:ln>
        </p:spPr>
      </p:cxnSp>
      <p:sp>
        <p:nvSpPr>
          <p:cNvPr id="214" name=""/>
          <p:cNvSpPr/>
          <p:nvPr/>
        </p:nvSpPr>
        <p:spPr>
          <a:xfrm>
            <a:off x="652320" y="4686480"/>
            <a:ext cx="4530960" cy="1191240"/>
          </a:xfrm>
          <a:prstGeom prst="borderCallout1">
            <a:avLst>
              <a:gd name="adj1" fmla="val 18750"/>
              <a:gd name="adj2" fmla="val -8333"/>
              <a:gd name="adj3" fmla="val -116250"/>
              <a:gd name="adj4" fmla="val 12305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agent saves his own behavior and state and acts when called upon by scheduler or other ag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106720" y="1854360"/>
            <a:ext cx="6243480" cy="825480"/>
          </a:xfrm>
          <a:prstGeom prst="borderCallout1">
            <a:avLst>
              <a:gd name="adj1" fmla="val 18750"/>
              <a:gd name="adj2" fmla="val -8333"/>
              <a:gd name="adj3" fmla="val 123625"/>
              <a:gd name="adj4" fmla="val -6879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event loop is now embedded in an object that sends messages to agents and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rot="4062000">
            <a:off x="1023480" y="2897280"/>
            <a:ext cx="730440" cy="129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rot="9147600">
            <a:off x="1387080" y="2989080"/>
            <a:ext cx="728640" cy="918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B0C51-FA59-430C-A2BD-85EB1BB2AF49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9C6D41-81FB-4FA6-988A-39827D47CBF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Swa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Swarm is an object that impl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mory allo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t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basic Swarm simulation consists of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 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89640" y="4529160"/>
            <a:ext cx="3809880" cy="1295280"/>
          </a:xfrm>
          <a:prstGeom prst="ellipse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869000" y="4929120"/>
            <a:ext cx="520560" cy="520920"/>
          </a:xfrm>
          <a:prstGeom prst="ellipse">
            <a:avLst/>
          </a:pr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168880" y="4718160"/>
            <a:ext cx="520560" cy="520560"/>
          </a:xfrm>
          <a:prstGeom prst="ellipse">
            <a:avLst/>
          </a:pr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335560" y="5065560"/>
            <a:ext cx="520560" cy="520920"/>
          </a:xfrm>
          <a:prstGeom prst="ellipse">
            <a:avLst/>
          </a:pr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638680" y="4716360"/>
            <a:ext cx="520920" cy="520920"/>
          </a:xfrm>
          <a:prstGeom prst="ellipse">
            <a:avLst/>
          </a:pr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889600" y="5003640"/>
            <a:ext cx="520560" cy="520920"/>
          </a:xfrm>
          <a:prstGeom prst="ellipse">
            <a:avLst/>
          </a:pr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521400" y="4859280"/>
            <a:ext cx="689040" cy="655560"/>
          </a:xfrm>
          <a:prstGeom prst="rect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738840" y="4694400"/>
            <a:ext cx="689040" cy="655560"/>
          </a:xfrm>
          <a:prstGeom prst="rect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655520" y="4233960"/>
            <a:ext cx="1049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989320" y="5821200"/>
            <a:ext cx="2349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nimate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667400" y="2608200"/>
            <a:ext cx="3809880" cy="1295640"/>
          </a:xfrm>
          <a:prstGeom prst="ellipse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6638760" y="2789280"/>
            <a:ext cx="622440" cy="888840"/>
            <a:chOff x="6638760" y="2789280"/>
            <a:chExt cx="622440" cy="888840"/>
          </a:xfrm>
        </p:grpSpPr>
        <p:sp>
          <p:nvSpPr>
            <p:cNvPr id="232" name=""/>
            <p:cNvSpPr/>
            <p:nvPr/>
          </p:nvSpPr>
          <p:spPr>
            <a:xfrm>
              <a:off x="6638760" y="2789280"/>
              <a:ext cx="622440" cy="88884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688080" y="2889000"/>
              <a:ext cx="523800" cy="13824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688080" y="3290760"/>
              <a:ext cx="523800" cy="13644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688080" y="3089160"/>
              <a:ext cx="523800" cy="13824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688080" y="3490920"/>
              <a:ext cx="523800" cy="13644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5295960" y="2911320"/>
            <a:ext cx="901800" cy="74952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403960" y="3030480"/>
            <a:ext cx="660240" cy="546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448240" y="2746440"/>
            <a:ext cx="901800" cy="74916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556240" y="2865600"/>
            <a:ext cx="660240" cy="5457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869720" y="2206800"/>
            <a:ext cx="12031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dg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394040" y="2130480"/>
            <a:ext cx="1015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791400" y="2889360"/>
            <a:ext cx="622080" cy="88884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840360" y="2989440"/>
            <a:ext cx="524160" cy="1378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840360" y="3390840"/>
            <a:ext cx="524160" cy="13644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840360" y="3189240"/>
            <a:ext cx="524160" cy="13824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840360" y="3591000"/>
            <a:ext cx="524160" cy="13644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264360" y="2011320"/>
            <a:ext cx="352440" cy="352440"/>
          </a:xfrm>
          <a:prstGeom prst="ellipse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9" name=""/>
          <p:cNvCxnSpPr>
            <a:stCxn id="248" idx="4"/>
            <a:endCxn id="230" idx="0"/>
          </p:cNvCxnSpPr>
          <p:nvPr/>
        </p:nvCxnSpPr>
        <p:spPr>
          <a:xfrm flipH="1" rot="16200000">
            <a:off x="6384240" y="2419200"/>
            <a:ext cx="244800" cy="132480"/>
          </a:xfrm>
          <a:prstGeom prst="bentConnector3">
            <a:avLst>
              <a:gd name="adj1" fmla="val 49926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0" name=""/>
          <p:cNvCxnSpPr>
            <a:stCxn id="230" idx="4"/>
            <a:endCxn id="220" idx="0"/>
          </p:cNvCxnSpPr>
          <p:nvPr/>
        </p:nvCxnSpPr>
        <p:spPr>
          <a:xfrm rot="5400000">
            <a:off x="6220080" y="4177440"/>
            <a:ext cx="626040" cy="784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1" name=""/>
          <p:cNvCxnSpPr>
            <a:stCxn id="228" idx="1"/>
            <a:endCxn id="221" idx="3"/>
          </p:cNvCxnSpPr>
          <p:nvPr/>
        </p:nvCxnSpPr>
        <p:spPr>
          <a:xfrm flipH="1" flipV="1" rot="10800000">
            <a:off x="4655880" y="4461480"/>
            <a:ext cx="289440" cy="911880"/>
          </a:xfrm>
          <a:prstGeom prst="curvedConnector5">
            <a:avLst>
              <a:gd name="adj1" fmla="val -79078"/>
              <a:gd name="adj2" fmla="val 66706"/>
              <a:gd name="adj3" fmla="val -79078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2" name=""/>
          <p:cNvCxnSpPr>
            <a:stCxn id="229" idx="3"/>
            <a:endCxn id="227" idx="3"/>
          </p:cNvCxnSpPr>
          <p:nvPr/>
        </p:nvCxnSpPr>
        <p:spPr>
          <a:xfrm flipH="1" flipV="1">
            <a:off x="7427520" y="5022000"/>
            <a:ext cx="905760" cy="1027800"/>
          </a:xfrm>
          <a:prstGeom prst="curvedConnector5">
            <a:avLst>
              <a:gd name="adj1" fmla="val -25248"/>
              <a:gd name="adj2" fmla="val 50000"/>
              <a:gd name="adj3" fmla="val -25248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3" name=""/>
          <p:cNvCxnSpPr>
            <a:stCxn id="241" idx="1"/>
            <a:endCxn id="237" idx="1"/>
          </p:cNvCxnSpPr>
          <p:nvPr/>
        </p:nvCxnSpPr>
        <p:spPr>
          <a:xfrm flipH="1" flipV="1" rot="10800000">
            <a:off x="4871520" y="2434320"/>
            <a:ext cx="424800" cy="851400"/>
          </a:xfrm>
          <a:prstGeom prst="curvedConnector5">
            <a:avLst>
              <a:gd name="adj1" fmla="val -53859"/>
              <a:gd name="adj2" fmla="val 50000"/>
              <a:gd name="adj3" fmla="val -53859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4" name=""/>
          <p:cNvCxnSpPr>
            <a:stCxn id="242" idx="3"/>
            <a:endCxn id="243" idx="3"/>
          </p:cNvCxnSpPr>
          <p:nvPr/>
        </p:nvCxnSpPr>
        <p:spPr>
          <a:xfrm flipH="1">
            <a:off x="7412760" y="2358720"/>
            <a:ext cx="996120" cy="975240"/>
          </a:xfrm>
          <a:prstGeom prst="curvedConnector5">
            <a:avLst>
              <a:gd name="adj1" fmla="val -22957"/>
              <a:gd name="adj2" fmla="val 50000"/>
              <a:gd name="adj3" fmla="val -22957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255" name=""/>
          <p:cNvSpPr/>
          <p:nvPr/>
        </p:nvSpPr>
        <p:spPr>
          <a:xfrm>
            <a:off x="7086240" y="3733920"/>
            <a:ext cx="129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912560" y="5616720"/>
            <a:ext cx="97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DFBB8-944C-4B62-B03E-F68E7FDD78F1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8DDED9-3C77-4FC0-8EB5-5FD8F6CFDE2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Swarm as a virtual comput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537240" y="2155680"/>
            <a:ext cx="1567080" cy="115416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840200" y="4437000"/>
            <a:ext cx="3251160" cy="771480"/>
          </a:xfrm>
          <a:prstGeom prst="rect">
            <a:avLst/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840200" y="3481560"/>
            <a:ext cx="3251160" cy="77148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836960" y="2155680"/>
            <a:ext cx="1568520" cy="115416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068080" y="4632480"/>
            <a:ext cx="2793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rating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381280" y="3689280"/>
            <a:ext cx="2167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warm ker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333040" y="2857680"/>
            <a:ext cx="727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874560" y="2827440"/>
            <a:ext cx="1065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737240" y="2071800"/>
            <a:ext cx="3481200" cy="2243160"/>
          </a:xfrm>
          <a:prstGeom prst="rect">
            <a:avLst/>
          </a:prstGeom>
          <a:noFill/>
          <a:ln w="507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310440" y="2571840"/>
            <a:ext cx="409320" cy="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348240" y="2906640"/>
            <a:ext cx="43344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010120" y="2222640"/>
            <a:ext cx="917640" cy="652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116680" y="2274840"/>
            <a:ext cx="704520" cy="53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186520" y="2398680"/>
            <a:ext cx="599760" cy="335160"/>
          </a:xfrm>
          <a:custGeom>
            <a:avLst/>
            <a:gdLst/>
            <a:ahLst/>
            <a:rect l="l" t="t" r="r" b="b"/>
            <a:pathLst>
              <a:path w="378" h="211">
                <a:moveTo>
                  <a:pt x="0" y="211"/>
                </a:moveTo>
                <a:cubicBezTo>
                  <a:pt x="22" y="179"/>
                  <a:pt x="28" y="149"/>
                  <a:pt x="56" y="122"/>
                </a:cubicBezTo>
                <a:cubicBezTo>
                  <a:pt x="57" y="119"/>
                  <a:pt x="73" y="47"/>
                  <a:pt x="100" y="67"/>
                </a:cubicBezTo>
                <a:cubicBezTo>
                  <a:pt x="115" y="78"/>
                  <a:pt x="105" y="104"/>
                  <a:pt x="111" y="122"/>
                </a:cubicBezTo>
                <a:cubicBezTo>
                  <a:pt x="116" y="135"/>
                  <a:pt x="127" y="144"/>
                  <a:pt x="133" y="156"/>
                </a:cubicBezTo>
                <a:cubicBezTo>
                  <a:pt x="138" y="166"/>
                  <a:pt x="141" y="178"/>
                  <a:pt x="145" y="189"/>
                </a:cubicBezTo>
                <a:cubicBezTo>
                  <a:pt x="202" y="151"/>
                  <a:pt x="211" y="89"/>
                  <a:pt x="278" y="67"/>
                </a:cubicBezTo>
                <a:cubicBezTo>
                  <a:pt x="295" y="13"/>
                  <a:pt x="307" y="36"/>
                  <a:pt x="345" y="0"/>
                </a:cubicBezTo>
                <a:cubicBezTo>
                  <a:pt x="356" y="4"/>
                  <a:pt x="378" y="11"/>
                  <a:pt x="378" y="1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08680" y="2540160"/>
            <a:ext cx="246240" cy="245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491240" y="2252520"/>
            <a:ext cx="246240" cy="2462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238880" y="2598840"/>
            <a:ext cx="246240" cy="245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5" name=""/>
          <p:cNvCxnSpPr>
            <a:stCxn id="274" idx="1"/>
            <a:endCxn id="272" idx="5"/>
          </p:cNvCxnSpPr>
          <p:nvPr/>
        </p:nvCxnSpPr>
        <p:spPr>
          <a:xfrm flipH="1">
            <a:off x="7017480" y="2635200"/>
            <a:ext cx="258120" cy="11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6" name=""/>
          <p:cNvCxnSpPr>
            <a:stCxn id="272" idx="7"/>
            <a:endCxn id="273" idx="2"/>
          </p:cNvCxnSpPr>
          <p:nvPr/>
        </p:nvCxnSpPr>
        <p:spPr>
          <a:xfrm flipH="1" flipV="1" rot="5400000">
            <a:off x="7154280" y="2239560"/>
            <a:ext cx="200880" cy="4737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7" name=""/>
          <p:cNvCxnSpPr>
            <a:stCxn id="274" idx="6"/>
            <a:endCxn id="273" idx="5"/>
          </p:cNvCxnSpPr>
          <p:nvPr/>
        </p:nvCxnSpPr>
        <p:spPr>
          <a:xfrm flipV="1">
            <a:off x="7485120" y="2461680"/>
            <a:ext cx="216720" cy="26136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mputer’s CPU executes program instru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arm kernel is virtual CPU running model and GUI ev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sted Swarms merge activity schedules into 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834080" y="5261040"/>
            <a:ext cx="3251160" cy="77148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046200" y="5384880"/>
            <a:ext cx="826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099040" y="3236760"/>
            <a:ext cx="212760" cy="424080"/>
          </a:xfrm>
          <a:prstGeom prst="downArrow">
            <a:avLst>
              <a:gd name="adj1" fmla="val 50000"/>
              <a:gd name="adj2" fmla="val 49831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734160" y="3236760"/>
            <a:ext cx="212760" cy="424080"/>
          </a:xfrm>
          <a:prstGeom prst="downArrow">
            <a:avLst>
              <a:gd name="adj1" fmla="val 50000"/>
              <a:gd name="adj2" fmla="val 49831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146640" y="4165560"/>
            <a:ext cx="212760" cy="424080"/>
          </a:xfrm>
          <a:prstGeom prst="downArrow">
            <a:avLst>
              <a:gd name="adj1" fmla="val 50000"/>
              <a:gd name="adj2" fmla="val 49831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099120" y="5000760"/>
            <a:ext cx="212760" cy="423720"/>
          </a:xfrm>
          <a:prstGeom prst="downArrow">
            <a:avLst>
              <a:gd name="adj1" fmla="val 50000"/>
              <a:gd name="adj2" fmla="val 49788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V="1">
            <a:off x="5764320" y="3236760"/>
            <a:ext cx="212760" cy="424080"/>
          </a:xfrm>
          <a:prstGeom prst="downArrow">
            <a:avLst>
              <a:gd name="adj1" fmla="val 50000"/>
              <a:gd name="adj2" fmla="val 49831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7488360" y="3236760"/>
            <a:ext cx="212760" cy="424080"/>
          </a:xfrm>
          <a:prstGeom prst="downArrow">
            <a:avLst>
              <a:gd name="adj1" fmla="val 50000"/>
              <a:gd name="adj2" fmla="val 49831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6657840" y="4165560"/>
            <a:ext cx="212760" cy="424080"/>
          </a:xfrm>
          <a:prstGeom prst="downArrow">
            <a:avLst>
              <a:gd name="adj1" fmla="val 50000"/>
              <a:gd name="adj2" fmla="val 49831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6669000" y="5000040"/>
            <a:ext cx="212760" cy="423720"/>
          </a:xfrm>
          <a:prstGeom prst="downArrow">
            <a:avLst>
              <a:gd name="adj1" fmla="val 50000"/>
              <a:gd name="adj2" fmla="val 49788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9FA8F-FAEB-462F-8095-EE08F0C18BF6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85CB19-1D12-4112-BFA1-05D74707E84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Activity fra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des abstractions that allow programmer to treat event scheduling in the artificial world as objects, separate from elements of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de some useful shorthand to group actions and sort according to the desired order of ev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nce schedules are objects, all agents in simulation can communicate with them, to schedule future events or cause actions to be dropped based on specified contingen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BD1D1-D28E-4AC6-934D-E6C0CC0CBE80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3E1FB0-5297-4887-B1AA-29BE88839D9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 flipV="1">
            <a:off x="7818480" y="5211360"/>
            <a:ext cx="1440" cy="514440"/>
          </a:xfrm>
          <a:prstGeom prst="line">
            <a:avLst/>
          </a:prstGeom>
          <a:ln w="7632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lements of Activity libr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vityGro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ordered set of “simultaneous” even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edu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dered set of events or groups of ev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armActiv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lying VM executing schedul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162400" y="2152800"/>
            <a:ext cx="1714680" cy="971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223600" y="221292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e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223600" y="265104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e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991200" y="2152800"/>
            <a:ext cx="1714680" cy="476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7033320" y="2193840"/>
            <a:ext cx="58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933800" y="4324320"/>
            <a:ext cx="3619800" cy="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257800" y="4191120"/>
            <a:ext cx="247680" cy="2476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039000" y="4191120"/>
            <a:ext cx="247680" cy="2476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781680" y="4191120"/>
            <a:ext cx="247680" cy="2476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7505640" y="3467160"/>
            <a:ext cx="476280" cy="3240"/>
          </a:xfrm>
          <a:prstGeom prst="line">
            <a:avLst/>
          </a:prstGeom>
          <a:ln w="7632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639200" y="3333600"/>
            <a:ext cx="247680" cy="247680"/>
          </a:xfrm>
          <a:prstGeom prst="ellipse">
            <a:avLst/>
          </a:prstGeom>
          <a:solidFill>
            <a:srgbClr val="0099cc"/>
          </a:solidFill>
          <a:ln w="9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5" name=""/>
          <p:cNvCxnSpPr>
            <a:stCxn id="296" idx="2"/>
            <a:endCxn id="300" idx="7"/>
          </p:cNvCxnSpPr>
          <p:nvPr/>
        </p:nvCxnSpPr>
        <p:spPr>
          <a:xfrm rot="5400000">
            <a:off x="5038920" y="3537360"/>
            <a:ext cx="1119960" cy="261360"/>
          </a:xfrm>
          <a:prstGeom prst="bentConnector3">
            <a:avLst>
              <a:gd name="adj1" fmla="val 4836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6" name=""/>
          <p:cNvCxnSpPr>
            <a:stCxn id="296" idx="2"/>
            <a:endCxn id="301" idx="0"/>
          </p:cNvCxnSpPr>
          <p:nvPr/>
        </p:nvCxnSpPr>
        <p:spPr>
          <a:xfrm flipH="1" rot="16200000">
            <a:off x="5404680" y="3432600"/>
            <a:ext cx="1083240" cy="4341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7" name=""/>
          <p:cNvCxnSpPr>
            <a:stCxn id="296" idx="2"/>
            <a:endCxn id="302" idx="0"/>
          </p:cNvCxnSpPr>
          <p:nvPr/>
        </p:nvCxnSpPr>
        <p:spPr>
          <a:xfrm flipH="1" rot="16200000">
            <a:off x="5775120" y="3061440"/>
            <a:ext cx="1083240" cy="11768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8" name=""/>
          <p:cNvCxnSpPr>
            <a:stCxn id="296" idx="2"/>
            <a:endCxn id="309" idx="0"/>
          </p:cNvCxnSpPr>
          <p:nvPr/>
        </p:nvCxnSpPr>
        <p:spPr>
          <a:xfrm flipH="1" rot="16200000">
            <a:off x="6184800" y="2651760"/>
            <a:ext cx="1083240" cy="1996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0" name=""/>
          <p:cNvCxnSpPr>
            <a:stCxn id="298" idx="2"/>
            <a:endCxn id="304" idx="0"/>
          </p:cNvCxnSpPr>
          <p:nvPr/>
        </p:nvCxnSpPr>
        <p:spPr>
          <a:xfrm flipH="1" rot="16200000">
            <a:off x="7203240" y="2774520"/>
            <a:ext cx="682920" cy="4359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09" name=""/>
          <p:cNvSpPr/>
          <p:nvPr/>
        </p:nvSpPr>
        <p:spPr>
          <a:xfrm>
            <a:off x="7601040" y="4191120"/>
            <a:ext cx="247680" cy="2476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162400" y="2647800"/>
            <a:ext cx="1714680" cy="12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896000" y="5734080"/>
            <a:ext cx="3619440" cy="0"/>
          </a:xfrm>
          <a:prstGeom prst="line">
            <a:avLst/>
          </a:prstGeom>
          <a:ln w="7632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219640" y="5600880"/>
            <a:ext cx="247680" cy="24732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000840" y="5600880"/>
            <a:ext cx="247680" cy="24732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781680" y="5600880"/>
            <a:ext cx="247680" cy="24732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677000" y="5600880"/>
            <a:ext cx="247680" cy="24732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677000" y="5124600"/>
            <a:ext cx="247680" cy="247680"/>
          </a:xfrm>
          <a:prstGeom prst="ellipse">
            <a:avLst/>
          </a:prstGeom>
          <a:solidFill>
            <a:srgbClr val="0099cc"/>
          </a:solidFill>
          <a:ln w="9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943440" y="1981080"/>
            <a:ext cx="304560" cy="30492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876400" y="3467160"/>
            <a:ext cx="476280" cy="3240"/>
          </a:xfrm>
          <a:prstGeom prst="line">
            <a:avLst/>
          </a:prstGeom>
          <a:ln w="7632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828960" y="3467160"/>
            <a:ext cx="476280" cy="324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809880" y="4762440"/>
            <a:ext cx="476280" cy="3240"/>
          </a:xfrm>
          <a:prstGeom prst="line">
            <a:avLst/>
          </a:prstGeom>
          <a:ln w="7632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85F78-1EB6-47BB-8BC0-5B5C6505C0C3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B20732-C925-419C-B32F-1CAAA9BBC3E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rst ses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ckgr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and overview of Swarm proj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ributions of Swa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ral  structure of simulations in Swa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ick and dirty introduction to Objective-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cumentation, resources, user commun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04ECA-F572-4672-A549-4FB82A086153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07997B-624F-46AB-BBC1-F4EA2A880B8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rging schedules in Swa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chedules of each sub Swarm are merged into the schedule of next level 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ally all schedules are merged in the top level 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ows you to treat the model as a nested hierarchy of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767120" y="2433600"/>
            <a:ext cx="3660840" cy="170352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073480" y="2992320"/>
            <a:ext cx="650880" cy="650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353200" y="3106800"/>
            <a:ext cx="307800" cy="24588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992920" y="3035160"/>
            <a:ext cx="207720" cy="20808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7531920" y="3938760"/>
            <a:ext cx="930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326280" y="3701880"/>
            <a:ext cx="1255680" cy="500400"/>
          </a:xfrm>
          <a:custGeom>
            <a:avLst/>
            <a:gdLst/>
            <a:ahLst/>
            <a:rect l="l" t="t" r="r" b="b"/>
            <a:pathLst>
              <a:path w="269" h="515">
                <a:moveTo>
                  <a:pt x="0" y="0"/>
                </a:moveTo>
                <a:lnTo>
                  <a:pt x="86" y="75"/>
                </a:lnTo>
                <a:lnTo>
                  <a:pt x="129" y="118"/>
                </a:lnTo>
                <a:lnTo>
                  <a:pt x="139" y="161"/>
                </a:lnTo>
                <a:lnTo>
                  <a:pt x="129" y="247"/>
                </a:lnTo>
                <a:lnTo>
                  <a:pt x="96" y="343"/>
                </a:lnTo>
                <a:lnTo>
                  <a:pt x="75" y="407"/>
                </a:lnTo>
                <a:lnTo>
                  <a:pt x="75" y="450"/>
                </a:lnTo>
                <a:lnTo>
                  <a:pt x="86" y="482"/>
                </a:lnTo>
                <a:lnTo>
                  <a:pt x="171" y="504"/>
                </a:lnTo>
                <a:lnTo>
                  <a:pt x="204" y="514"/>
                </a:lnTo>
                <a:lnTo>
                  <a:pt x="246" y="514"/>
                </a:lnTo>
                <a:lnTo>
                  <a:pt x="268" y="51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646520" y="2000160"/>
            <a:ext cx="1303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453280" y="2577960"/>
            <a:ext cx="23871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p level 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2" name=""/>
          <p:cNvCxnSpPr>
            <a:stCxn id="330" idx="2"/>
            <a:endCxn id="325" idx="2"/>
          </p:cNvCxnSpPr>
          <p:nvPr/>
        </p:nvCxnSpPr>
        <p:spPr>
          <a:xfrm rot="5400000">
            <a:off x="4755240" y="2774520"/>
            <a:ext cx="861120" cy="226440"/>
          </a:xfrm>
          <a:prstGeom prst="curvedConnector5">
            <a:avLst>
              <a:gd name="adj1" fmla="val 30991"/>
              <a:gd name="adj2" fmla="val 100636"/>
              <a:gd name="adj3" fmla="val 30991"/>
            </a:avLst>
          </a:prstGeom>
          <a:ln w="19080">
            <a:solidFill>
              <a:srgbClr val="000000"/>
            </a:solidFill>
            <a:miter/>
          </a:ln>
        </p:spPr>
      </p:cxnSp>
      <p:sp>
        <p:nvSpPr>
          <p:cNvPr id="333" name=""/>
          <p:cNvSpPr/>
          <p:nvPr/>
        </p:nvSpPr>
        <p:spPr>
          <a:xfrm>
            <a:off x="6464160" y="2959200"/>
            <a:ext cx="208080" cy="20772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021360" y="3417840"/>
            <a:ext cx="208080" cy="20808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562800" y="3413160"/>
            <a:ext cx="207720" cy="20808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6943680" y="3071880"/>
            <a:ext cx="208080" cy="19044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7307280" y="3279600"/>
            <a:ext cx="208080" cy="19080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759200" y="4341960"/>
            <a:ext cx="3660840" cy="170316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9" name=""/>
          <p:cNvCxnSpPr/>
          <p:nvPr/>
        </p:nvCxnSpPr>
        <p:spPr>
          <a:xfrm flipH="1" rot="10800000">
            <a:off x="5360040" y="3513960"/>
            <a:ext cx="51480" cy="1707480"/>
          </a:xfrm>
          <a:prstGeom prst="bentConnector4">
            <a:avLst>
              <a:gd name="adj1" fmla="val -450000"/>
              <a:gd name="adj2" fmla="val 59531"/>
            </a:avLst>
          </a:prstGeom>
          <a:ln w="9360">
            <a:solidFill>
              <a:srgbClr val="b2b2b2"/>
            </a:solidFill>
            <a:miter/>
          </a:ln>
        </p:spPr>
      </p:cxnSp>
      <p:sp>
        <p:nvSpPr>
          <p:cNvPr id="340" name=""/>
          <p:cNvSpPr/>
          <p:nvPr/>
        </p:nvSpPr>
        <p:spPr>
          <a:xfrm>
            <a:off x="5262480" y="4883040"/>
            <a:ext cx="650880" cy="650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513400" y="4995720"/>
            <a:ext cx="307800" cy="2714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950080" y="4608360"/>
            <a:ext cx="207720" cy="20808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352560" y="4521240"/>
            <a:ext cx="1699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ub 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562800" y="4975200"/>
            <a:ext cx="207720" cy="20808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6154560" y="5168880"/>
            <a:ext cx="208080" cy="20808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645240" y="5410080"/>
            <a:ext cx="208080" cy="20808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7024680" y="5176800"/>
            <a:ext cx="208080" cy="19044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388280" y="5046840"/>
            <a:ext cx="208080" cy="19044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DEDFE-8F69-4C68-8F0C-32C5C65C203E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0CCC73-50EB-4C0C-BD36-B66DB27262E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aging memory in Swa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allocation and deallocation of memory is a necessary feature in an OO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warm provides libraries for this purpose which make the process transparent to us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sic feature: Objects are created and destroyed using a notion of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emory z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dropping a memory zone can drop entire collections or sub Swa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43CC2-B3D4-41CB-AD57-6A2C9955858F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4484F3-B2DE-4C61-A82F-249E6B63D67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877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recursive structure of Swa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792520" y="1922400"/>
            <a:ext cx="3660840" cy="17035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116160" y="2568600"/>
            <a:ext cx="650880" cy="650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432240" y="2562120"/>
            <a:ext cx="307800" cy="34128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017960" y="2347920"/>
            <a:ext cx="208080" cy="2080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595760" y="2654280"/>
            <a:ext cx="208080" cy="2080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019840" y="2417760"/>
            <a:ext cx="207720" cy="2080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4321080" y="3065400"/>
            <a:ext cx="208080" cy="2080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186520" y="2897280"/>
            <a:ext cx="207720" cy="20772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822320" y="4013280"/>
            <a:ext cx="2502000" cy="112716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044800" y="4421160"/>
            <a:ext cx="441360" cy="441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102120" y="4818240"/>
            <a:ext cx="139680" cy="1346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075120" y="4071960"/>
            <a:ext cx="13788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346560" y="4317840"/>
            <a:ext cx="13968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071880" y="4357800"/>
            <a:ext cx="137880" cy="13320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460680" y="4645080"/>
            <a:ext cx="138240" cy="1378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205240" y="4573440"/>
            <a:ext cx="2502000" cy="11620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427720" y="5016600"/>
            <a:ext cx="441360" cy="441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043680" y="4863960"/>
            <a:ext cx="139680" cy="1396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303960" y="4700520"/>
            <a:ext cx="13824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7104240" y="4896000"/>
            <a:ext cx="139680" cy="1378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6251400" y="5356080"/>
            <a:ext cx="13824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792840" y="5070600"/>
            <a:ext cx="138240" cy="1378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2157480" y="3157560"/>
            <a:ext cx="2176560" cy="1003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317840" y="3157560"/>
            <a:ext cx="16200" cy="1428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 flipV="1">
            <a:off x="3535200" y="4551120"/>
            <a:ext cx="2891160" cy="153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586320" y="4721400"/>
            <a:ext cx="2006280" cy="850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170760" y="2392200"/>
            <a:ext cx="936360" cy="290520"/>
          </a:xfrm>
          <a:custGeom>
            <a:avLst/>
            <a:gdLst/>
            <a:ahLst/>
            <a:rect l="l" t="t" r="r" b="b"/>
            <a:pathLst>
              <a:path w="590" h="183">
                <a:moveTo>
                  <a:pt x="0" y="150"/>
                </a:moveTo>
                <a:lnTo>
                  <a:pt x="43" y="86"/>
                </a:lnTo>
                <a:lnTo>
                  <a:pt x="107" y="32"/>
                </a:lnTo>
                <a:lnTo>
                  <a:pt x="172" y="0"/>
                </a:lnTo>
                <a:lnTo>
                  <a:pt x="204" y="0"/>
                </a:lnTo>
                <a:lnTo>
                  <a:pt x="289" y="43"/>
                </a:lnTo>
                <a:lnTo>
                  <a:pt x="354" y="96"/>
                </a:lnTo>
                <a:lnTo>
                  <a:pt x="397" y="150"/>
                </a:lnTo>
                <a:lnTo>
                  <a:pt x="418" y="182"/>
                </a:lnTo>
                <a:lnTo>
                  <a:pt x="472" y="139"/>
                </a:lnTo>
                <a:lnTo>
                  <a:pt x="514" y="96"/>
                </a:lnTo>
                <a:lnTo>
                  <a:pt x="547" y="64"/>
                </a:lnTo>
                <a:lnTo>
                  <a:pt x="589" y="43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7098840" y="2224080"/>
            <a:ext cx="1049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718880" y="3909960"/>
            <a:ext cx="1625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-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337000" y="3038400"/>
            <a:ext cx="614520" cy="733680"/>
          </a:xfrm>
          <a:custGeom>
            <a:avLst/>
            <a:gdLst/>
            <a:ahLst/>
            <a:rect l="l" t="t" r="r" b="b"/>
            <a:pathLst>
              <a:path w="387" h="462">
                <a:moveTo>
                  <a:pt x="0" y="0"/>
                </a:moveTo>
                <a:lnTo>
                  <a:pt x="54" y="0"/>
                </a:lnTo>
                <a:lnTo>
                  <a:pt x="97" y="21"/>
                </a:lnTo>
                <a:lnTo>
                  <a:pt x="129" y="53"/>
                </a:lnTo>
                <a:lnTo>
                  <a:pt x="161" y="118"/>
                </a:lnTo>
                <a:lnTo>
                  <a:pt x="161" y="236"/>
                </a:lnTo>
                <a:lnTo>
                  <a:pt x="150" y="353"/>
                </a:lnTo>
                <a:lnTo>
                  <a:pt x="140" y="418"/>
                </a:lnTo>
                <a:lnTo>
                  <a:pt x="161" y="450"/>
                </a:lnTo>
                <a:lnTo>
                  <a:pt x="215" y="461"/>
                </a:lnTo>
                <a:lnTo>
                  <a:pt x="279" y="461"/>
                </a:lnTo>
                <a:lnTo>
                  <a:pt x="322" y="461"/>
                </a:lnTo>
                <a:lnTo>
                  <a:pt x="354" y="461"/>
                </a:lnTo>
                <a:lnTo>
                  <a:pt x="386" y="439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925240" y="3516480"/>
            <a:ext cx="930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351320" y="3191040"/>
            <a:ext cx="426960" cy="817560"/>
          </a:xfrm>
          <a:custGeom>
            <a:avLst/>
            <a:gdLst/>
            <a:ahLst/>
            <a:rect l="l" t="t" r="r" b="b"/>
            <a:pathLst>
              <a:path w="269" h="515">
                <a:moveTo>
                  <a:pt x="0" y="0"/>
                </a:moveTo>
                <a:lnTo>
                  <a:pt x="86" y="75"/>
                </a:lnTo>
                <a:lnTo>
                  <a:pt x="129" y="118"/>
                </a:lnTo>
                <a:lnTo>
                  <a:pt x="139" y="161"/>
                </a:lnTo>
                <a:lnTo>
                  <a:pt x="129" y="247"/>
                </a:lnTo>
                <a:lnTo>
                  <a:pt x="96" y="343"/>
                </a:lnTo>
                <a:lnTo>
                  <a:pt x="75" y="407"/>
                </a:lnTo>
                <a:lnTo>
                  <a:pt x="75" y="450"/>
                </a:lnTo>
                <a:lnTo>
                  <a:pt x="86" y="482"/>
                </a:lnTo>
                <a:lnTo>
                  <a:pt x="171" y="504"/>
                </a:lnTo>
                <a:lnTo>
                  <a:pt x="204" y="514"/>
                </a:lnTo>
                <a:lnTo>
                  <a:pt x="246" y="514"/>
                </a:lnTo>
                <a:lnTo>
                  <a:pt x="268" y="51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513160" y="1523880"/>
            <a:ext cx="1303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2819520" y="1905120"/>
            <a:ext cx="393480" cy="879480"/>
          </a:xfrm>
          <a:custGeom>
            <a:avLst/>
            <a:gdLst/>
            <a:ahLst/>
            <a:rect l="l" t="t" r="r" b="b"/>
            <a:pathLst>
              <a:path w="419" h="408">
                <a:moveTo>
                  <a:pt x="418" y="407"/>
                </a:moveTo>
                <a:lnTo>
                  <a:pt x="407" y="343"/>
                </a:lnTo>
                <a:lnTo>
                  <a:pt x="397" y="311"/>
                </a:lnTo>
                <a:lnTo>
                  <a:pt x="386" y="289"/>
                </a:lnTo>
                <a:lnTo>
                  <a:pt x="365" y="257"/>
                </a:lnTo>
                <a:lnTo>
                  <a:pt x="322" y="225"/>
                </a:lnTo>
                <a:lnTo>
                  <a:pt x="279" y="214"/>
                </a:lnTo>
                <a:lnTo>
                  <a:pt x="236" y="204"/>
                </a:lnTo>
                <a:lnTo>
                  <a:pt x="193" y="204"/>
                </a:lnTo>
                <a:lnTo>
                  <a:pt x="150" y="204"/>
                </a:lnTo>
                <a:lnTo>
                  <a:pt x="108" y="204"/>
                </a:lnTo>
                <a:lnTo>
                  <a:pt x="86" y="204"/>
                </a:lnTo>
                <a:lnTo>
                  <a:pt x="54" y="182"/>
                </a:lnTo>
                <a:lnTo>
                  <a:pt x="22" y="140"/>
                </a:lnTo>
                <a:lnTo>
                  <a:pt x="11" y="118"/>
                </a:lnTo>
                <a:lnTo>
                  <a:pt x="11" y="86"/>
                </a:lnTo>
                <a:lnTo>
                  <a:pt x="11" y="43"/>
                </a:lnTo>
                <a:lnTo>
                  <a:pt x="11" y="11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057400" y="4419720"/>
            <a:ext cx="324000" cy="222120"/>
          </a:xfrm>
          <a:custGeom>
            <a:avLst/>
            <a:gdLst/>
            <a:ahLst/>
            <a:rect l="l" t="t" r="r" b="b"/>
            <a:pathLst>
              <a:path w="204" h="140">
                <a:moveTo>
                  <a:pt x="0" y="86"/>
                </a:moveTo>
                <a:lnTo>
                  <a:pt x="150" y="139"/>
                </a:lnTo>
                <a:lnTo>
                  <a:pt x="203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423040" y="5181480"/>
            <a:ext cx="291960" cy="255600"/>
          </a:xfrm>
          <a:custGeom>
            <a:avLst/>
            <a:gdLst/>
            <a:ahLst/>
            <a:rect l="l" t="t" r="r" b="b"/>
            <a:pathLst>
              <a:path w="151" h="130">
                <a:moveTo>
                  <a:pt x="0" y="0"/>
                </a:moveTo>
                <a:lnTo>
                  <a:pt x="150" y="11"/>
                </a:lnTo>
                <a:lnTo>
                  <a:pt x="75" y="129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003320" y="2617920"/>
            <a:ext cx="1401840" cy="7189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174680" y="2838600"/>
            <a:ext cx="243000" cy="279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168560" y="2849400"/>
            <a:ext cx="182520" cy="142920"/>
          </a:xfrm>
          <a:custGeom>
            <a:avLst/>
            <a:gdLst/>
            <a:ahLst/>
            <a:rect l="l" t="t" r="r" b="b"/>
            <a:pathLst>
              <a:path w="115" h="90">
                <a:moveTo>
                  <a:pt x="0" y="55"/>
                </a:moveTo>
                <a:lnTo>
                  <a:pt x="84" y="89"/>
                </a:lnTo>
                <a:lnTo>
                  <a:pt x="114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1550880" y="2873520"/>
            <a:ext cx="208080" cy="344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873080" y="2770200"/>
            <a:ext cx="208080" cy="344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060560" y="3382920"/>
            <a:ext cx="1955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Interf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669640" y="1646280"/>
            <a:ext cx="1599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517920" y="4295880"/>
            <a:ext cx="1344600" cy="376200"/>
          </a:xfrm>
          <a:custGeom>
            <a:avLst/>
            <a:gdLst/>
            <a:ahLst/>
            <a:rect l="l" t="t" r="r" b="b"/>
            <a:pathLst>
              <a:path w="847" h="237">
                <a:moveTo>
                  <a:pt x="0" y="236"/>
                </a:moveTo>
                <a:lnTo>
                  <a:pt x="11" y="182"/>
                </a:lnTo>
                <a:lnTo>
                  <a:pt x="43" y="129"/>
                </a:lnTo>
                <a:lnTo>
                  <a:pt x="86" y="97"/>
                </a:lnTo>
                <a:lnTo>
                  <a:pt x="128" y="86"/>
                </a:lnTo>
                <a:lnTo>
                  <a:pt x="150" y="97"/>
                </a:lnTo>
                <a:lnTo>
                  <a:pt x="182" y="118"/>
                </a:lnTo>
                <a:lnTo>
                  <a:pt x="214" y="129"/>
                </a:lnTo>
                <a:lnTo>
                  <a:pt x="246" y="161"/>
                </a:lnTo>
                <a:lnTo>
                  <a:pt x="268" y="172"/>
                </a:lnTo>
                <a:lnTo>
                  <a:pt x="300" y="172"/>
                </a:lnTo>
                <a:lnTo>
                  <a:pt x="353" y="182"/>
                </a:lnTo>
                <a:lnTo>
                  <a:pt x="396" y="193"/>
                </a:lnTo>
                <a:lnTo>
                  <a:pt x="450" y="193"/>
                </a:lnTo>
                <a:lnTo>
                  <a:pt x="514" y="182"/>
                </a:lnTo>
                <a:lnTo>
                  <a:pt x="557" y="182"/>
                </a:lnTo>
                <a:lnTo>
                  <a:pt x="600" y="172"/>
                </a:lnTo>
                <a:lnTo>
                  <a:pt x="632" y="161"/>
                </a:lnTo>
                <a:lnTo>
                  <a:pt x="675" y="139"/>
                </a:lnTo>
                <a:lnTo>
                  <a:pt x="707" y="118"/>
                </a:lnTo>
                <a:lnTo>
                  <a:pt x="750" y="97"/>
                </a:lnTo>
                <a:lnTo>
                  <a:pt x="782" y="65"/>
                </a:lnTo>
                <a:lnTo>
                  <a:pt x="825" y="32"/>
                </a:lnTo>
                <a:lnTo>
                  <a:pt x="846" y="0"/>
                </a:lnTo>
                <a:lnTo>
                  <a:pt x="814" y="2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837720" y="1981080"/>
            <a:ext cx="1015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7" name=""/>
          <p:cNvCxnSpPr>
            <a:stCxn id="396" idx="2"/>
            <a:endCxn id="391" idx="0"/>
          </p:cNvCxnSpPr>
          <p:nvPr/>
        </p:nvCxnSpPr>
        <p:spPr>
          <a:xfrm flipH="1" rot="16200000">
            <a:off x="1283040" y="2500560"/>
            <a:ext cx="435960" cy="310320"/>
          </a:xfrm>
          <a:prstGeom prst="curvedConnector5">
            <a:avLst>
              <a:gd name="adj1" fmla="val 50000"/>
              <a:gd name="adj2" fmla="val 49941"/>
              <a:gd name="adj3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98" name=""/>
          <p:cNvCxnSpPr/>
          <p:nvPr/>
        </p:nvCxnSpPr>
        <p:spPr>
          <a:xfrm flipH="1" rot="16200000">
            <a:off x="1613880" y="2424600"/>
            <a:ext cx="435600" cy="310320"/>
          </a:xfrm>
          <a:prstGeom prst="curvedConnector5">
            <a:avLst>
              <a:gd name="adj1" fmla="val 49958"/>
              <a:gd name="adj2" fmla="val 49941"/>
              <a:gd name="adj3" fmla="val 49958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99" name=""/>
          <p:cNvSpPr/>
          <p:nvPr/>
        </p:nvSpPr>
        <p:spPr>
          <a:xfrm>
            <a:off x="6552360" y="4168800"/>
            <a:ext cx="2151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-sub-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A0B9B-26D6-4EF9-83D0-FDC3074C67FB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CAA973-0A8D-4CF4-82A5-EAD2992BE4F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/>
          <p:nvPr/>
        </p:nvSpPr>
        <p:spPr>
          <a:xfrm>
            <a:off x="6858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agents and objects in Swarm can be prob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e attaches itself to an agent, can send a message, change a variable or retrieve values by calling agent or reading variable direct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Prob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876920" y="3657600"/>
            <a:ext cx="1523880" cy="2133720"/>
          </a:xfrm>
          <a:prstGeom prst="can">
            <a:avLst>
              <a:gd name="adj" fmla="val 25000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 rot="2067600">
            <a:off x="5790960" y="2742840"/>
            <a:ext cx="304560" cy="1295280"/>
          </a:xfrm>
          <a:prstGeom prst="cube">
            <a:avLst>
              <a:gd name="adj" fmla="val 25000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 rot="2290200">
            <a:off x="5562360" y="2514600"/>
            <a:ext cx="1600200" cy="533520"/>
          </a:xfrm>
          <a:prstGeom prst="can">
            <a:avLst>
              <a:gd name="adj" fmla="val 25000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 flipH="1" rot="17278800">
            <a:off x="7010280" y="1447920"/>
            <a:ext cx="914400" cy="1828800"/>
          </a:xfrm>
          <a:custGeom>
            <a:avLst/>
            <a:gdLst>
              <a:gd name="textAreaLeft" fmla="*/ 122400 w 914400"/>
              <a:gd name="textAreaRight" fmla="*/ 792000 w 914400"/>
              <a:gd name="textAreaTop" fmla="*/ 320040 h 1828800"/>
              <a:gd name="textAreaBottom" fmla="*/ 13258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7162920" y="3124080"/>
            <a:ext cx="1371600" cy="99072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ar=10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5257800" y="4648320"/>
            <a:ext cx="676440" cy="35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Agent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178BA-B167-4936-ADF5-0A5DA68ABDF6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ED417D-9F43-4E80-87AB-A92C25AAEBE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es and the GU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probe can be used to communicate with objects in real time through a graphical widg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default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be ma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agent shows all variables and functions - can also customize displ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 flipV="1">
            <a:off x="6338880" y="4484160"/>
            <a:ext cx="976320" cy="481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478400" y="5121360"/>
            <a:ext cx="779400" cy="1092240"/>
          </a:xfrm>
          <a:prstGeom prst="can">
            <a:avLst>
              <a:gd name="adj" fmla="val 25000"/>
            </a:avLst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rot="2067600">
            <a:off x="4963680" y="4689000"/>
            <a:ext cx="155520" cy="662040"/>
          </a:xfrm>
          <a:prstGeom prst="cube">
            <a:avLst>
              <a:gd name="adj" fmla="val 25000"/>
            </a:avLst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 rot="2290200">
            <a:off x="4846320" y="4571640"/>
            <a:ext cx="819000" cy="272880"/>
          </a:xfrm>
          <a:prstGeom prst="can">
            <a:avLst>
              <a:gd name="adj" fmla="val 25000"/>
            </a:avLst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b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4595760" y="5568840"/>
            <a:ext cx="504720" cy="26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Agent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15" name=""/>
          <p:cNvSpPr/>
          <p:nvPr/>
        </p:nvSpPr>
        <p:spPr>
          <a:xfrm rot="2067600">
            <a:off x="5495400" y="3759120"/>
            <a:ext cx="152640" cy="966960"/>
          </a:xfrm>
          <a:prstGeom prst="cube">
            <a:avLst>
              <a:gd name="adj" fmla="val 25000"/>
            </a:avLst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6" name="" descr=""/>
          <p:cNvPicPr/>
          <p:nvPr/>
        </p:nvPicPr>
        <p:blipFill>
          <a:blip r:embed="rId1"/>
          <a:stretch/>
        </p:blipFill>
        <p:spPr>
          <a:xfrm>
            <a:off x="5791320" y="2438280"/>
            <a:ext cx="2260440" cy="2708280"/>
          </a:xfrm>
          <a:prstGeom prst="rect">
            <a:avLst/>
          </a:prstGeom>
          <a:ln w="0">
            <a:noFill/>
          </a:ln>
        </p:spPr>
      </p:pic>
      <p:sp>
        <p:nvSpPr>
          <p:cNvPr id="417" name=""/>
          <p:cNvSpPr/>
          <p:nvPr/>
        </p:nvSpPr>
        <p:spPr>
          <a:xfrm>
            <a:off x="5636520" y="5562720"/>
            <a:ext cx="192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ecutes meth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5867280" y="4952520"/>
            <a:ext cx="3049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216840" y="5234040"/>
            <a:ext cx="258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put value for vari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V="1">
            <a:off x="7086600" y="4495320"/>
            <a:ext cx="45720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412880" y="1981080"/>
            <a:ext cx="23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en probe for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410080" y="2362320"/>
            <a:ext cx="5335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780600" y="1981080"/>
            <a:ext cx="140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ose 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7315200" y="2362320"/>
            <a:ext cx="5335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AF0B5-9F89-4FA8-9BAE-2DE8E0F74D6B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EFBD41-913D-4636-AB87-11ED4DDF9FE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es without a GU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es are also used to gather information dynamically from single agents or collection of ag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mong other features is the ability to define and execute method calls on the fly at run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 rot="1005600">
            <a:off x="5103360" y="2511000"/>
            <a:ext cx="1420920" cy="768240"/>
          </a:xfrm>
          <a:prstGeom prst="rect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124400">
            <a:off x="5622840" y="3301920"/>
            <a:ext cx="157320" cy="1305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 rot="897600">
            <a:off x="4150800" y="4527360"/>
            <a:ext cx="4135680" cy="76824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4629240" y="4400640"/>
            <a:ext cx="571320" cy="57132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334120" y="4476600"/>
            <a:ext cx="571320" cy="57168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6019920" y="4514760"/>
            <a:ext cx="571320" cy="57168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6705720" y="4591080"/>
            <a:ext cx="571320" cy="57132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7372440" y="4648320"/>
            <a:ext cx="571320" cy="57132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 rot="6522000">
            <a:off x="6922440" y="2674800"/>
            <a:ext cx="206640" cy="981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7372440" y="2495520"/>
            <a:ext cx="1066680" cy="1123920"/>
          </a:xfrm>
          <a:prstGeom prst="ellipse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386240" y="5356080"/>
            <a:ext cx="10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5124600" y="5718240"/>
            <a:ext cx="250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collectio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032440" y="1984320"/>
            <a:ext cx="354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 that analyze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147080" y="3660840"/>
            <a:ext cx="163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 tha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s on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7" idx="1"/>
            <a:endCxn id="430" idx="3"/>
          </p:cNvCxnSpPr>
          <p:nvPr/>
        </p:nvCxnSpPr>
        <p:spPr>
          <a:xfrm flipH="1" rot="10800000">
            <a:off x="4384440" y="4887360"/>
            <a:ext cx="329040" cy="697320"/>
          </a:xfrm>
          <a:prstGeom prst="curvedConnector5">
            <a:avLst>
              <a:gd name="adj1" fmla="val -69550"/>
              <a:gd name="adj2" fmla="val 30165"/>
              <a:gd name="adj3" fmla="val -6955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42" name=""/>
          <p:cNvCxnSpPr>
            <a:stCxn id="438" idx="3"/>
            <a:endCxn id="429" idx="3"/>
          </p:cNvCxnSpPr>
          <p:nvPr/>
        </p:nvCxnSpPr>
        <p:spPr>
          <a:xfrm flipV="1">
            <a:off x="7626240" y="5444640"/>
            <a:ext cx="589680" cy="502560"/>
          </a:xfrm>
          <a:prstGeom prst="curvedConnector5">
            <a:avLst>
              <a:gd name="adj1" fmla="val 155772"/>
              <a:gd name="adj2" fmla="val 49964"/>
              <a:gd name="adj3" fmla="val 15577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43" name=""/>
          <p:cNvCxnSpPr>
            <a:stCxn id="439" idx="1"/>
            <a:endCxn id="427" idx="1"/>
          </p:cNvCxnSpPr>
          <p:nvPr/>
        </p:nvCxnSpPr>
        <p:spPr>
          <a:xfrm flipH="1" flipV="1" rot="10800000">
            <a:off x="5032080" y="2211840"/>
            <a:ext cx="102240" cy="477000"/>
          </a:xfrm>
          <a:prstGeom prst="curvedConnector5">
            <a:avLst>
              <a:gd name="adj1" fmla="val -234275"/>
              <a:gd name="adj2" fmla="val 50000"/>
              <a:gd name="adj3" fmla="val -234275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44" name=""/>
          <p:cNvSpPr/>
          <p:nvPr/>
        </p:nvSpPr>
        <p:spPr>
          <a:xfrm>
            <a:off x="4309920" y="3565440"/>
            <a:ext cx="8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5" name=""/>
          <p:cNvCxnSpPr>
            <a:stCxn id="444" idx="2"/>
            <a:endCxn id="428" idx="1"/>
          </p:cNvCxnSpPr>
          <p:nvPr/>
        </p:nvCxnSpPr>
        <p:spPr>
          <a:xfrm flipH="1" flipV="1" rot="5400000">
            <a:off x="5143320" y="3539880"/>
            <a:ext cx="95760" cy="870480"/>
          </a:xfrm>
          <a:prstGeom prst="curvedConnector5">
            <a:avLst>
              <a:gd name="adj1" fmla="val -240000"/>
              <a:gd name="adj2" fmla="val 31816"/>
              <a:gd name="adj3" fmla="val -24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92474-C0DD-4940-B1C0-0D7E2EDB21DC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90C807-A652-4CB6-9889-70A78503DA5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Graphical User Interf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s provided to create and manag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ne grap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stogra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ster im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grap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collection, calculation and updating is provided through support objects to the GUI widg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8" name="ezgraph" descr=""/>
          <p:cNvPicPr/>
          <p:nvPr/>
        </p:nvPicPr>
        <p:blipFill>
          <a:blip r:embed="rId1"/>
          <a:stretch/>
        </p:blipFill>
        <p:spPr>
          <a:xfrm>
            <a:off x="4626000" y="1933560"/>
            <a:ext cx="2590920" cy="1739880"/>
          </a:xfrm>
          <a:prstGeom prst="rect">
            <a:avLst/>
          </a:prstGeom>
          <a:ln w="0">
            <a:noFill/>
          </a:ln>
        </p:spPr>
      </p:pic>
      <p:pic>
        <p:nvPicPr>
          <p:cNvPr id="449" name="ezbin" descr=""/>
          <p:cNvPicPr/>
          <p:nvPr/>
        </p:nvPicPr>
        <p:blipFill>
          <a:blip r:embed="rId2"/>
          <a:stretch/>
        </p:blipFill>
        <p:spPr>
          <a:xfrm>
            <a:off x="5600880" y="3081240"/>
            <a:ext cx="2628720" cy="1784520"/>
          </a:xfrm>
          <a:prstGeom prst="rect">
            <a:avLst/>
          </a:prstGeom>
          <a:ln w="0">
            <a:noFill/>
          </a:ln>
        </p:spPr>
      </p:pic>
      <p:sp>
        <p:nvSpPr>
          <p:cNvPr id="450" name=""/>
          <p:cNvSpPr/>
          <p:nvPr/>
        </p:nvSpPr>
        <p:spPr>
          <a:xfrm>
            <a:off x="4508640" y="4102200"/>
            <a:ext cx="2025360" cy="204300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1" name="" descr=""/>
          <p:cNvPicPr/>
          <p:nvPr/>
        </p:nvPicPr>
        <p:blipFill>
          <a:blip r:embed="rId3"/>
          <a:stretch/>
        </p:blipFill>
        <p:spPr>
          <a:xfrm>
            <a:off x="4583160" y="4184640"/>
            <a:ext cx="1876320" cy="1876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C3412-174E-406B-AD56-25A765468BA0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6F19B6-836F-4ED4-A554-9A5E23C6BF3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"/>
          <p:cNvSpPr/>
          <p:nvPr/>
        </p:nvSpPr>
        <p:spPr>
          <a:xfrm rot="1124400">
            <a:off x="5663880" y="3228480"/>
            <a:ext cx="95040" cy="78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 rot="1124400">
            <a:off x="6883200" y="3285720"/>
            <a:ext cx="95040" cy="78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6469200" y="3790800"/>
            <a:ext cx="641160" cy="67644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 rot="1124400">
            <a:off x="6578280" y="4390560"/>
            <a:ext cx="95040" cy="78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 rot="1005600">
            <a:off x="5028840" y="3762000"/>
            <a:ext cx="853920" cy="461880"/>
          </a:xfrm>
          <a:prstGeom prst="rect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eeding data to the GUI widge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rot="1124400">
            <a:off x="5340240" y="4238280"/>
            <a:ext cx="95400" cy="7840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rot="897600">
            <a:off x="4456080" y="4974840"/>
            <a:ext cx="2486160" cy="46188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743360" y="4898880"/>
            <a:ext cx="343080" cy="34308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5167440" y="4944960"/>
            <a:ext cx="342720" cy="34308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5580000" y="4967280"/>
            <a:ext cx="343080" cy="34452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5991120" y="5013360"/>
            <a:ext cx="344520" cy="34272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6392880" y="5048280"/>
            <a:ext cx="342720" cy="34272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5" name="ezgraph" descr=""/>
          <p:cNvPicPr/>
          <p:nvPr/>
        </p:nvPicPr>
        <p:blipFill>
          <a:blip r:embed="rId1"/>
          <a:stretch/>
        </p:blipFill>
        <p:spPr>
          <a:xfrm>
            <a:off x="5254560" y="1895400"/>
            <a:ext cx="2590920" cy="1739880"/>
          </a:xfrm>
          <a:prstGeom prst="rect">
            <a:avLst/>
          </a:prstGeom>
          <a:ln w="0">
            <a:noFill/>
          </a:ln>
        </p:spPr>
      </p:pic>
      <p:sp>
        <p:nvSpPr>
          <p:cNvPr id="466" name=""/>
          <p:cNvSpPr/>
          <p:nvPr/>
        </p:nvSpPr>
        <p:spPr>
          <a:xfrm>
            <a:off x="7357320" y="3870360"/>
            <a:ext cx="131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era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604320" y="3508200"/>
            <a:ext cx="131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era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c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005000" y="4327560"/>
            <a:ext cx="8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7262640" y="4917960"/>
            <a:ext cx="8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3833640" y="5375160"/>
            <a:ext cx="9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64720" y="5546880"/>
            <a:ext cx="145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l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2" name=""/>
          <p:cNvCxnSpPr>
            <a:stCxn id="468" idx="3"/>
            <a:endCxn id="458" idx="1"/>
          </p:cNvCxnSpPr>
          <p:nvPr/>
        </p:nvCxnSpPr>
        <p:spPr>
          <a:xfrm>
            <a:off x="4898520" y="4555800"/>
            <a:ext cx="443880" cy="59400"/>
          </a:xfrm>
          <a:prstGeom prst="curvedConnector5">
            <a:avLst>
              <a:gd name="adj1" fmla="val 35795"/>
              <a:gd name="adj2" fmla="val 50000"/>
              <a:gd name="adj3" fmla="val 3579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3" name=""/>
          <p:cNvCxnSpPr>
            <a:stCxn id="469" idx="1"/>
            <a:endCxn id="455" idx="3"/>
          </p:cNvCxnSpPr>
          <p:nvPr/>
        </p:nvCxnSpPr>
        <p:spPr>
          <a:xfrm rot="10800000">
            <a:off x="6670080" y="4796640"/>
            <a:ext cx="591120" cy="349920"/>
          </a:xfrm>
          <a:prstGeom prst="curvedConnector5">
            <a:avLst>
              <a:gd name="adj1" fmla="val 39244"/>
              <a:gd name="adj2" fmla="val 49948"/>
              <a:gd name="adj3" fmla="val 39244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4" name=""/>
          <p:cNvCxnSpPr>
            <a:stCxn id="470" idx="2"/>
            <a:endCxn id="461" idx="4"/>
          </p:cNvCxnSpPr>
          <p:nvPr/>
        </p:nvCxnSpPr>
        <p:spPr>
          <a:xfrm flipH="1" flipV="1" rot="5400000">
            <a:off x="4544640" y="5038920"/>
            <a:ext cx="545040" cy="1042200"/>
          </a:xfrm>
          <a:prstGeom prst="curvedConnector5">
            <a:avLst>
              <a:gd name="adj1" fmla="val -41969"/>
              <a:gd name="adj2" fmla="val 50000"/>
              <a:gd name="adj3" fmla="val -41969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5" name=""/>
          <p:cNvCxnSpPr>
            <a:stCxn id="471" idx="2"/>
            <a:endCxn id="459" idx="3"/>
          </p:cNvCxnSpPr>
          <p:nvPr/>
        </p:nvCxnSpPr>
        <p:spPr>
          <a:xfrm flipV="1" rot="16200000">
            <a:off x="7156080" y="5268240"/>
            <a:ext cx="478800" cy="992880"/>
          </a:xfrm>
          <a:prstGeom prst="curvedConnector5">
            <a:avLst>
              <a:gd name="adj1" fmla="val -47780"/>
              <a:gd name="adj2" fmla="val 41748"/>
              <a:gd name="adj3" fmla="val -4778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6" name=""/>
          <p:cNvCxnSpPr>
            <a:stCxn id="467" idx="0"/>
            <a:endCxn id="456" idx="1"/>
          </p:cNvCxnSpPr>
          <p:nvPr/>
        </p:nvCxnSpPr>
        <p:spPr>
          <a:xfrm flipH="1" rot="16200000">
            <a:off x="4474080" y="3295080"/>
            <a:ext cx="361080" cy="785160"/>
          </a:xfrm>
          <a:prstGeom prst="curvedConnector5">
            <a:avLst>
              <a:gd name="adj1" fmla="val -63373"/>
              <a:gd name="adj2" fmla="val 43807"/>
              <a:gd name="adj3" fmla="val -63373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7" name=""/>
          <p:cNvCxnSpPr>
            <a:stCxn id="466" idx="0"/>
            <a:endCxn id="454" idx="6"/>
          </p:cNvCxnSpPr>
          <p:nvPr/>
        </p:nvCxnSpPr>
        <p:spPr>
          <a:xfrm rot="5400000">
            <a:off x="7432920" y="3546360"/>
            <a:ext cx="259560" cy="905760"/>
          </a:xfrm>
          <a:prstGeom prst="curvedConnector5">
            <a:avLst>
              <a:gd name="adj1" fmla="val -88333"/>
              <a:gd name="adj2" fmla="val 43220"/>
              <a:gd name="adj3" fmla="val -88333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78" name=""/>
          <p:cNvSpPr/>
          <p:nvPr/>
        </p:nvSpPr>
        <p:spPr>
          <a:xfrm>
            <a:off x="3681720" y="2498760"/>
            <a:ext cx="101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p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d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9" name=""/>
          <p:cNvCxnSpPr>
            <a:stCxn id="478" idx="0"/>
            <a:endCxn id="465" idx="1"/>
          </p:cNvCxnSpPr>
          <p:nvPr/>
        </p:nvCxnSpPr>
        <p:spPr>
          <a:xfrm flipH="1" rot="16200000">
            <a:off x="4589640" y="2098800"/>
            <a:ext cx="267120" cy="1064160"/>
          </a:xfrm>
          <a:prstGeom prst="curvedConnector5">
            <a:avLst>
              <a:gd name="adj1" fmla="val -85695"/>
              <a:gd name="adj2" fmla="val 36988"/>
              <a:gd name="adj3" fmla="val -85695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308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put on graphs or other widgets relies heavily on the probes and dynamic access to agent’s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arm collection objects also facilitate pro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5B03E-B3B9-4C6A-8346-68C06AC7EB43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7E8334-D00A-47A8-AABA-CB1812C367A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Objective-C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story: Created by Brad Cox, most intensively used by NeXT, now owned by Apple Computer and forms basis for Mac OS X (Rhapsod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 difference between C++ and Objective-C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sy to learn: A simple superclass of C - no new keyw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ially interpreted: Dynamic binding at runtime for objects and methods. Static typing option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83B08-2A24-4295-B5B2-FAA66BCBD13C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AF3322-19FD-4E2D-8298-DF451C7E97B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riting objects in Objective-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66704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object is defined in terms of it’s interface and implem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program or project consists of a collection of object declarations and definitions (*.h and *.m fil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5" name="WATCHC1" descr=""/>
          <p:cNvPicPr/>
          <p:nvPr/>
        </p:nvPicPr>
        <p:blipFill>
          <a:blip r:embed="rId1"/>
          <a:stretch/>
        </p:blipFill>
        <p:spPr>
          <a:xfrm>
            <a:off x="1481040" y="1854360"/>
            <a:ext cx="1838520" cy="1409400"/>
          </a:xfrm>
          <a:prstGeom prst="rect">
            <a:avLst/>
          </a:prstGeom>
          <a:ln w="0">
            <a:noFill/>
          </a:ln>
        </p:spPr>
      </p:pic>
      <p:sp>
        <p:nvSpPr>
          <p:cNvPr id="486" name=""/>
          <p:cNvSpPr/>
          <p:nvPr/>
        </p:nvSpPr>
        <p:spPr>
          <a:xfrm>
            <a:off x="718200" y="5653080"/>
            <a:ext cx="154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rface: *.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2540160" y="3149640"/>
            <a:ext cx="2082600" cy="2260440"/>
          </a:xfrm>
          <a:prstGeom prst="foldedCorner">
            <a:avLst>
              <a:gd name="adj" fmla="val 12500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@implementati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tho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482760" y="3301920"/>
            <a:ext cx="2133360" cy="2324160"/>
          </a:xfrm>
          <a:prstGeom prst="foldedCorner">
            <a:avLst>
              <a:gd name="adj" fmla="val 12500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@interfac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clara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 instan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riabl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metho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9" name=""/>
          <p:cNvCxnSpPr/>
          <p:nvPr/>
        </p:nvCxnSpPr>
        <p:spPr>
          <a:xfrm flipH="1" flipV="1" rot="10800000">
            <a:off x="1722240" y="2583360"/>
            <a:ext cx="81360" cy="1010520"/>
          </a:xfrm>
          <a:prstGeom prst="bentConnector4">
            <a:avLst>
              <a:gd name="adj1" fmla="val -282222"/>
              <a:gd name="adj2" fmla="val 84889"/>
            </a:avLst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0" name=""/>
          <p:cNvCxnSpPr/>
          <p:nvPr/>
        </p:nvCxnSpPr>
        <p:spPr>
          <a:xfrm>
            <a:off x="3002040" y="2584440"/>
            <a:ext cx="148320" cy="781920"/>
          </a:xfrm>
          <a:prstGeom prst="bentConnector2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91" name=""/>
          <p:cNvSpPr/>
          <p:nvPr/>
        </p:nvSpPr>
        <p:spPr>
          <a:xfrm>
            <a:off x="2494440" y="5386320"/>
            <a:ext cx="231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plementation: *.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1BA2C-3A18-432E-9ADC-43D387FF376D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EA743E-C87D-4296-914E-393CEA5ED58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cus for the d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ral structure of a Swarm simu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in contributions of the Swarm proje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t management: Swarms, Activity libr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ormation management: Prob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ical input and output: GUI 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mory management: Creation/destru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rt for multiple langu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FF93D-163F-4A2B-98BA-5EB3FE35CF5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9B6AD0-680B-47DA-B989-B66975F4B7B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571680" y="4324320"/>
            <a:ext cx="4095720" cy="76212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571680" y="2666880"/>
            <a:ext cx="4133520" cy="104796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2971800" y="2171880"/>
            <a:ext cx="1619280" cy="3618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2133720" y="2171880"/>
            <a:ext cx="514080" cy="3618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few Objective-C bas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6146640" y="2543040"/>
            <a:ext cx="541440" cy="5414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7088040" y="3319560"/>
            <a:ext cx="541440" cy="54108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5337000" y="3336840"/>
            <a:ext cx="541440" cy="541440"/>
          </a:xfrm>
          <a:prstGeom prst="ellipse">
            <a:avLst/>
          </a:pr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0" name=""/>
          <p:cNvCxnSpPr>
            <a:stCxn id="497" idx="4"/>
            <a:endCxn id="499" idx="0"/>
          </p:cNvCxnSpPr>
          <p:nvPr/>
        </p:nvCxnSpPr>
        <p:spPr>
          <a:xfrm rot="5400000">
            <a:off x="5886720" y="2805480"/>
            <a:ext cx="253080" cy="810360"/>
          </a:xfrm>
          <a:prstGeom prst="bentConnector3">
            <a:avLst>
              <a:gd name="adj1" fmla="val 4957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1" name=""/>
          <p:cNvCxnSpPr>
            <a:stCxn id="497" idx="4"/>
            <a:endCxn id="498" idx="0"/>
          </p:cNvCxnSpPr>
          <p:nvPr/>
        </p:nvCxnSpPr>
        <p:spPr>
          <a:xfrm flipH="1" rot="16200000">
            <a:off x="6771240" y="2730960"/>
            <a:ext cx="235800" cy="941760"/>
          </a:xfrm>
          <a:prstGeom prst="bentConnector3">
            <a:avLst>
              <a:gd name="adj1" fmla="val 55351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02" name=""/>
          <p:cNvSpPr/>
          <p:nvPr/>
        </p:nvSpPr>
        <p:spPr>
          <a:xfrm>
            <a:off x="605160" y="2208240"/>
            <a:ext cx="42955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@interface Bug : SwarmObjec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xPos, yPo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worldXSize, worldYSiz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d foodSpac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setX: (int) x Y: (int) 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ste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@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5146560" y="4226040"/>
            <a:ext cx="1363680" cy="1390680"/>
          </a:xfrm>
          <a:prstGeom prst="ellipse">
            <a:avLst/>
          </a:pr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5238720" y="49528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5" name=""/>
          <p:cNvCxnSpPr>
            <a:endCxn id="493" idx="3"/>
          </p:cNvCxnSpPr>
          <p:nvPr/>
        </p:nvCxnSpPr>
        <p:spPr>
          <a:xfrm rot="10800000">
            <a:off x="4704480" y="3191040"/>
            <a:ext cx="515160" cy="1390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06" name=""/>
          <p:cNvCxnSpPr>
            <a:endCxn id="492" idx="3"/>
          </p:cNvCxnSpPr>
          <p:nvPr/>
        </p:nvCxnSpPr>
        <p:spPr>
          <a:xfrm rot="10800000">
            <a:off x="4666680" y="4704480"/>
            <a:ext cx="552960" cy="457920"/>
          </a:xfrm>
          <a:prstGeom prst="bentConnector3">
            <a:avLst>
              <a:gd name="adj1" fmla="val 4996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07" name=""/>
          <p:cNvCxnSpPr>
            <a:stCxn id="497" idx="0"/>
            <a:endCxn id="494" idx="0"/>
          </p:cNvCxnSpPr>
          <p:nvPr/>
        </p:nvCxnSpPr>
        <p:spPr>
          <a:xfrm flipV="1" rot="16200000">
            <a:off x="4913640" y="1038240"/>
            <a:ext cx="371880" cy="2637720"/>
          </a:xfrm>
          <a:prstGeom prst="bentConnector3">
            <a:avLst>
              <a:gd name="adj1" fmla="val 16153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08" name=""/>
          <p:cNvCxnSpPr>
            <a:stCxn id="499" idx="2"/>
            <a:endCxn id="495" idx="0"/>
          </p:cNvCxnSpPr>
          <p:nvPr/>
        </p:nvCxnSpPr>
        <p:spPr>
          <a:xfrm rot="10800000">
            <a:off x="2390040" y="2171160"/>
            <a:ext cx="2946960" cy="1437120"/>
          </a:xfrm>
          <a:prstGeom prst="bentConnector4">
            <a:avLst>
              <a:gd name="adj1" fmla="val 6841"/>
              <a:gd name="adj2" fmla="val 13179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9" name=""/>
          <p:cNvSpPr/>
          <p:nvPr/>
        </p:nvSpPr>
        <p:spPr>
          <a:xfrm>
            <a:off x="6842160" y="2365200"/>
            <a:ext cx="15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er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052400" y="4022640"/>
            <a:ext cx="157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089840" y="4651200"/>
            <a:ext cx="135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6785640" y="5794200"/>
            <a:ext cx="124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13" name=""/>
          <p:cNvCxnSpPr>
            <a:stCxn id="512" idx="1"/>
            <a:endCxn id="503" idx="4"/>
          </p:cNvCxnSpPr>
          <p:nvPr/>
        </p:nvCxnSpPr>
        <p:spPr>
          <a:xfrm rot="10800000">
            <a:off x="5828760" y="5616000"/>
            <a:ext cx="956160" cy="40680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14" name=""/>
          <p:cNvCxnSpPr>
            <a:stCxn id="511" idx="1"/>
            <a:endCxn id="503" idx="7"/>
          </p:cNvCxnSpPr>
          <p:nvPr/>
        </p:nvCxnSpPr>
        <p:spPr>
          <a:xfrm rot="10800000">
            <a:off x="6309720" y="4428360"/>
            <a:ext cx="780120" cy="634320"/>
          </a:xfrm>
          <a:prstGeom prst="curvedConnector5">
            <a:avLst>
              <a:gd name="adj1" fmla="val 37026"/>
              <a:gd name="adj2" fmla="val 84043"/>
              <a:gd name="adj3" fmla="val 37026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4A4FB-A653-45F8-BA9C-1D1A5A4ADFDA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BDAE7D-532A-4362-B387-91096F9DA72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basic synta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27720" y="1866960"/>
            <a:ext cx="4279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mess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clares a method called `message'. E.g. ‘step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message:(type) 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clares method called ‘message:’ that takes one argu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setX:(type)x Y:(type)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clares method called ‘setX:Y:’ that takes two argu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612720" y="1981080"/>
            <a:ext cx="40482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@interface Bug:SwarmObjec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xPos, yPo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worldXSize,worldYSiz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d foodSpac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ste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setX: (int) x Y: (int) 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@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89017-F1BE-46CB-9CF9-E98FDAF47121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52E408-C338-4DE7-B634-BE3DD64D229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Objective-C synta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ing metho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Message:(type) 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aMessage:(type)v1 with:(type)v2 and:(type) v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lling metho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obj aMessage: val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obj aMessage: val1 with: val2 and: val3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90B09-CAB5-40BB-ABE5-56E4D9302F02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2FF3DE-9E34-48A3-8CD9-A19E42B174D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 Functions vs. ObjC method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ive-C metho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(type)name: (type) v1 argName2: (type) v2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bod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val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 func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(type)name((type) v1,(type) v2)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bod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val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4324320" y="4857840"/>
            <a:ext cx="3543480" cy="1276200"/>
          </a:xfrm>
          <a:prstGeom prst="wedgeRectCallout">
            <a:avLst>
              <a:gd name="adj1" fmla="val -102643"/>
              <a:gd name="adj2" fmla="val -4402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de in body cou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ok exactly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me in C and Objective-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3B43E-81B0-4832-900E-89FCD2C14E84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6EFDD1-669D-48BD-AC23-AF6EDE34FB2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id variable type etc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ault variable type for object in ObjC is 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nk of this as a special variable type (which is actually a pointer to a special data structure - namely the objec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objects can refer to themselves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self ...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objects can refer to superclass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super ...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DA6DE-B59A-470A-9C9A-EA18E19B2EC2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E2B1D0-A14A-4C44-896F-D55885082AD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claring a cla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454640" y="4781520"/>
            <a:ext cx="3938400" cy="116208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4425840" y="2662200"/>
            <a:ext cx="3938760" cy="195264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4419720" y="1981080"/>
            <a:ext cx="1523880" cy="38124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6019920" y="1981080"/>
            <a:ext cx="2438280" cy="38124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685800" y="1981080"/>
            <a:ext cx="3581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header file or interface declar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s 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’s super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ance 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4419720" y="1981080"/>
            <a:ext cx="4114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@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erface  Obj:SuperCla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ype Iv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ype Iv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ype Iv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(type)aMetho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anotherMethod: (type) v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8085240" y="2629080"/>
            <a:ext cx="458640" cy="474480"/>
          </a:xfrm>
          <a:custGeom>
            <a:avLst/>
            <a:gdLst>
              <a:gd name="textAreaLeft" fmla="*/ 104760 w 458640"/>
              <a:gd name="textAreaRight" fmla="*/ 353880 w 458640"/>
              <a:gd name="textAreaTop" fmla="*/ 108360 h 474480"/>
              <a:gd name="textAreaBottom" fmla="*/ 366120 h 474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8085240" y="1828800"/>
            <a:ext cx="458640" cy="474840"/>
          </a:xfrm>
          <a:custGeom>
            <a:avLst/>
            <a:gdLst>
              <a:gd name="textAreaLeft" fmla="*/ 104760 w 458640"/>
              <a:gd name="textAreaRight" fmla="*/ 353880 w 458640"/>
              <a:gd name="textAreaTop" fmla="*/ 108360 h 474840"/>
              <a:gd name="textAreaBottom" fmla="*/ 366480 h 474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4043520" y="1857240"/>
            <a:ext cx="458640" cy="474840"/>
          </a:xfrm>
          <a:custGeom>
            <a:avLst/>
            <a:gdLst>
              <a:gd name="textAreaLeft" fmla="*/ 104760 w 458640"/>
              <a:gd name="textAreaRight" fmla="*/ 353880 w 458640"/>
              <a:gd name="textAreaTop" fmla="*/ 108360 h 474840"/>
              <a:gd name="textAreaBottom" fmla="*/ 366480 h 474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8085240" y="4616280"/>
            <a:ext cx="458640" cy="474840"/>
          </a:xfrm>
          <a:custGeom>
            <a:avLst/>
            <a:gdLst>
              <a:gd name="textAreaLeft" fmla="*/ 104760 w 458640"/>
              <a:gd name="textAreaRight" fmla="*/ 353880 w 458640"/>
              <a:gd name="textAreaTop" fmla="*/ 108360 h 474840"/>
              <a:gd name="textAreaBottom" fmla="*/ 366480 h 474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682560" y="287352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682560" y="335916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682560" y="3828960"/>
            <a:ext cx="374760" cy="405000"/>
          </a:xfrm>
          <a:custGeom>
            <a:avLst/>
            <a:gdLst>
              <a:gd name="textAreaLeft" fmla="*/ 85320 w 374760"/>
              <a:gd name="textAreaRight" fmla="*/ 289440 w 374760"/>
              <a:gd name="textAreaTop" fmla="*/ 92520 h 405000"/>
              <a:gd name="textAreaBottom" fmla="*/ 312480 h 405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82560" y="424512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BF3E1-BC5D-4BA2-8DFD-D0CFCB2BFFDF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1CCF49-65B4-48A8-96EB-2441E231555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fining a cla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4275000" y="5041800"/>
            <a:ext cx="4449960" cy="1008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8292960" y="4719600"/>
            <a:ext cx="459000" cy="474840"/>
          </a:xfrm>
          <a:custGeom>
            <a:avLst/>
            <a:gdLst>
              <a:gd name="textAreaLeft" fmla="*/ 104760 w 459000"/>
              <a:gd name="textAreaRight" fmla="*/ 354240 w 459000"/>
              <a:gd name="textAreaTop" fmla="*/ 108360 h 474840"/>
              <a:gd name="textAreaBottom" fmla="*/ 366480 h 474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4264200" y="3425760"/>
            <a:ext cx="4449600" cy="13510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4270320" y="2003400"/>
            <a:ext cx="4449960" cy="3636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4267080" y="2697120"/>
            <a:ext cx="2210040" cy="380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6553080" y="2697120"/>
            <a:ext cx="2210040" cy="380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4267080" y="1981080"/>
            <a:ext cx="44960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import “Obj.h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@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mplementation  Ob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(type)aMethod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bod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va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anotherMethod: (type) v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bod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self;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685800" y="1981080"/>
            <a:ext cx="3527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ed on the interface the object file contains the implementation of the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s are essentially C functions, same rules about return values and arguments, local v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return type of method is not defined value must return an id 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lf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8242200" y="1890720"/>
            <a:ext cx="459000" cy="474480"/>
          </a:xfrm>
          <a:custGeom>
            <a:avLst/>
            <a:gdLst>
              <a:gd name="textAreaLeft" fmla="*/ 104760 w 459000"/>
              <a:gd name="textAreaRight" fmla="*/ 354240 w 459000"/>
              <a:gd name="textAreaTop" fmla="*/ 108360 h 474480"/>
              <a:gd name="textAreaBottom" fmla="*/ 366120 h 474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623880" y="236232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4373640" y="2360520"/>
            <a:ext cx="458640" cy="474840"/>
          </a:xfrm>
          <a:custGeom>
            <a:avLst/>
            <a:gdLst>
              <a:gd name="textAreaLeft" fmla="*/ 104760 w 458640"/>
              <a:gd name="textAreaRight" fmla="*/ 353880 w 458640"/>
              <a:gd name="textAreaTop" fmla="*/ 108360 h 474840"/>
              <a:gd name="textAreaBottom" fmla="*/ 366480 h 474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8232840" y="2459160"/>
            <a:ext cx="458640" cy="474480"/>
          </a:xfrm>
          <a:custGeom>
            <a:avLst/>
            <a:gdLst>
              <a:gd name="textAreaLeft" fmla="*/ 104760 w 458640"/>
              <a:gd name="textAreaRight" fmla="*/ 353880 w 458640"/>
              <a:gd name="textAreaTop" fmla="*/ 108360 h 474480"/>
              <a:gd name="textAreaBottom" fmla="*/ 366120 h 474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8247240" y="3209760"/>
            <a:ext cx="458640" cy="474840"/>
          </a:xfrm>
          <a:custGeom>
            <a:avLst/>
            <a:gdLst>
              <a:gd name="textAreaLeft" fmla="*/ 104760 w 458640"/>
              <a:gd name="textAreaRight" fmla="*/ 353880 w 458640"/>
              <a:gd name="textAreaTop" fmla="*/ 108360 h 474840"/>
              <a:gd name="textAreaBottom" fmla="*/ 366480 h 474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625320" y="276228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23880" y="314496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623880" y="3895560"/>
            <a:ext cx="374760" cy="405000"/>
          </a:xfrm>
          <a:custGeom>
            <a:avLst/>
            <a:gdLst>
              <a:gd name="textAreaLeft" fmla="*/ 85320 w 374760"/>
              <a:gd name="textAreaRight" fmla="*/ 289440 w 374760"/>
              <a:gd name="textAreaTop" fmla="*/ 92520 h 405000"/>
              <a:gd name="textAreaBottom" fmla="*/ 312480 h 405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F679C-CD90-45DC-8D9B-D2829ED7A7CD}" type="slidenum">
              <a:t>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C573A4-3164-4B8B-8315-36037FE549C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ical small ObjC proj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1521000" y="4218120"/>
            <a:ext cx="1136520" cy="1703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3635280" y="1981080"/>
            <a:ext cx="1136880" cy="170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5810400" y="2000160"/>
            <a:ext cx="1136520" cy="170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3672000" y="4222800"/>
            <a:ext cx="1136520" cy="1703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5796000" y="4275000"/>
            <a:ext cx="1136520" cy="170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1627920" y="4375080"/>
            <a:ext cx="79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in.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695400" y="4410000"/>
            <a:ext cx="974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assA.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5889240" y="4427640"/>
            <a:ext cx="964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assB.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3758040" y="2106720"/>
            <a:ext cx="91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assA.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5902560" y="2122560"/>
            <a:ext cx="90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assB.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8" name=""/>
          <p:cNvGrpSpPr/>
          <p:nvPr/>
        </p:nvGrpSpPr>
        <p:grpSpPr>
          <a:xfrm>
            <a:off x="3859200" y="4886280"/>
            <a:ext cx="685800" cy="650880"/>
            <a:chOff x="3859200" y="4886280"/>
            <a:chExt cx="685800" cy="650880"/>
          </a:xfrm>
        </p:grpSpPr>
        <p:sp>
          <p:nvSpPr>
            <p:cNvPr id="569" name=""/>
            <p:cNvSpPr/>
            <p:nvPr/>
          </p:nvSpPr>
          <p:spPr>
            <a:xfrm>
              <a:off x="3859200" y="4886280"/>
              <a:ext cx="585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3859200" y="5052960"/>
              <a:ext cx="468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59200" y="521964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59200" y="5388120"/>
              <a:ext cx="30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859200" y="5537160"/>
              <a:ext cx="33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4" name=""/>
          <p:cNvGrpSpPr/>
          <p:nvPr/>
        </p:nvGrpSpPr>
        <p:grpSpPr>
          <a:xfrm>
            <a:off x="5999040" y="4954680"/>
            <a:ext cx="685800" cy="650880"/>
            <a:chOff x="5999040" y="4954680"/>
            <a:chExt cx="685800" cy="650880"/>
          </a:xfrm>
        </p:grpSpPr>
        <p:sp>
          <p:nvSpPr>
            <p:cNvPr id="575" name=""/>
            <p:cNvSpPr/>
            <p:nvPr/>
          </p:nvSpPr>
          <p:spPr>
            <a:xfrm>
              <a:off x="5999040" y="4954680"/>
              <a:ext cx="585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999040" y="5121360"/>
              <a:ext cx="468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999040" y="528804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5999040" y="5456520"/>
              <a:ext cx="30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5999040" y="5605560"/>
              <a:ext cx="33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0" name=""/>
          <p:cNvGrpSpPr/>
          <p:nvPr/>
        </p:nvGrpSpPr>
        <p:grpSpPr>
          <a:xfrm>
            <a:off x="3846600" y="2784600"/>
            <a:ext cx="685800" cy="650880"/>
            <a:chOff x="3846600" y="2784600"/>
            <a:chExt cx="685800" cy="650880"/>
          </a:xfrm>
        </p:grpSpPr>
        <p:sp>
          <p:nvSpPr>
            <p:cNvPr id="581" name=""/>
            <p:cNvSpPr/>
            <p:nvPr/>
          </p:nvSpPr>
          <p:spPr>
            <a:xfrm>
              <a:off x="3846600" y="2784600"/>
              <a:ext cx="585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3846600" y="2951280"/>
              <a:ext cx="468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3846600" y="311796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846600" y="3286440"/>
              <a:ext cx="30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3846600" y="3435480"/>
              <a:ext cx="33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6" name=""/>
          <p:cNvGrpSpPr/>
          <p:nvPr/>
        </p:nvGrpSpPr>
        <p:grpSpPr>
          <a:xfrm>
            <a:off x="5987880" y="2770200"/>
            <a:ext cx="685800" cy="650880"/>
            <a:chOff x="5987880" y="2770200"/>
            <a:chExt cx="685800" cy="650880"/>
          </a:xfrm>
        </p:grpSpPr>
        <p:sp>
          <p:nvSpPr>
            <p:cNvPr id="587" name=""/>
            <p:cNvSpPr/>
            <p:nvPr/>
          </p:nvSpPr>
          <p:spPr>
            <a:xfrm>
              <a:off x="5987880" y="2770200"/>
              <a:ext cx="585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5987880" y="2936880"/>
              <a:ext cx="468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5987880" y="310356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5987880" y="3272040"/>
              <a:ext cx="30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5987880" y="3421080"/>
              <a:ext cx="33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2" name=""/>
          <p:cNvGrpSpPr/>
          <p:nvPr/>
        </p:nvGrpSpPr>
        <p:grpSpPr>
          <a:xfrm>
            <a:off x="1709640" y="4975200"/>
            <a:ext cx="685800" cy="650880"/>
            <a:chOff x="1709640" y="4975200"/>
            <a:chExt cx="685800" cy="650880"/>
          </a:xfrm>
        </p:grpSpPr>
        <p:sp>
          <p:nvSpPr>
            <p:cNvPr id="593" name=""/>
            <p:cNvSpPr/>
            <p:nvPr/>
          </p:nvSpPr>
          <p:spPr>
            <a:xfrm>
              <a:off x="1709640" y="4975200"/>
              <a:ext cx="585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1709640" y="5141880"/>
              <a:ext cx="468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1709640" y="530856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1709640" y="5477040"/>
              <a:ext cx="30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1709640" y="5626080"/>
              <a:ext cx="33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8" name=""/>
          <p:cNvSpPr/>
          <p:nvPr/>
        </p:nvSpPr>
        <p:spPr>
          <a:xfrm>
            <a:off x="3408480" y="1711440"/>
            <a:ext cx="1738080" cy="442728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5532480" y="1698480"/>
            <a:ext cx="1738440" cy="442764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CF1F7-D779-40B7-8DE1-0D6DE8C38A8A}" type="slidenum">
              <a:t>3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F666A6-B051-435D-86B9-0B57212B073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ussian roulet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players A and B alternate aiming revolver at themsel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un starts emp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fore pulling trigger each player must load new bullet in revol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revolver doesn’t go off player hands gun over to oppon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81EA5-6F80-450F-93FA-EFC4D5BFD6BC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12CF2E-FDE4-4BA7-9DB0-D52B6653434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rvival probabili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3" name=""/>
          <p:cNvGrpSpPr/>
          <p:nvPr/>
        </p:nvGrpSpPr>
        <p:grpSpPr>
          <a:xfrm>
            <a:off x="1469520" y="1601640"/>
            <a:ext cx="1404000" cy="981000"/>
            <a:chOff x="1469520" y="1601640"/>
            <a:chExt cx="1404000" cy="981000"/>
          </a:xfrm>
        </p:grpSpPr>
        <p:sp>
          <p:nvSpPr>
            <p:cNvPr id="604" name=""/>
            <p:cNvSpPr/>
            <p:nvPr/>
          </p:nvSpPr>
          <p:spPr>
            <a:xfrm flipH="1">
              <a:off x="1469520" y="2081160"/>
              <a:ext cx="584280" cy="501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2104920" y="2081160"/>
              <a:ext cx="768600" cy="468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1892880" y="16016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7" name=""/>
          <p:cNvGrpSpPr/>
          <p:nvPr/>
        </p:nvGrpSpPr>
        <p:grpSpPr>
          <a:xfrm>
            <a:off x="2475000" y="2389320"/>
            <a:ext cx="1402920" cy="981000"/>
            <a:chOff x="2475000" y="2389320"/>
            <a:chExt cx="1402920" cy="981000"/>
          </a:xfrm>
        </p:grpSpPr>
        <p:sp>
          <p:nvSpPr>
            <p:cNvPr id="608" name=""/>
            <p:cNvSpPr/>
            <p:nvPr/>
          </p:nvSpPr>
          <p:spPr>
            <a:xfrm flipH="1">
              <a:off x="2475000" y="2868840"/>
              <a:ext cx="583920" cy="501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109680" y="2868840"/>
              <a:ext cx="768240" cy="468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2905200" y="238932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1" name=""/>
          <p:cNvGrpSpPr/>
          <p:nvPr/>
        </p:nvGrpSpPr>
        <p:grpSpPr>
          <a:xfrm>
            <a:off x="3610080" y="3141720"/>
            <a:ext cx="1402920" cy="981000"/>
            <a:chOff x="3610080" y="3141720"/>
            <a:chExt cx="1402920" cy="981000"/>
          </a:xfrm>
        </p:grpSpPr>
        <p:sp>
          <p:nvSpPr>
            <p:cNvPr id="612" name=""/>
            <p:cNvSpPr/>
            <p:nvPr/>
          </p:nvSpPr>
          <p:spPr>
            <a:xfrm flipH="1">
              <a:off x="3610080" y="3621240"/>
              <a:ext cx="583920" cy="501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4244760" y="3621240"/>
              <a:ext cx="768240" cy="468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4032360" y="31417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5" name=""/>
          <p:cNvGrpSpPr/>
          <p:nvPr/>
        </p:nvGrpSpPr>
        <p:grpSpPr>
          <a:xfrm>
            <a:off x="4680000" y="3876840"/>
            <a:ext cx="1402920" cy="981000"/>
            <a:chOff x="4680000" y="3876840"/>
            <a:chExt cx="1402920" cy="981000"/>
          </a:xfrm>
        </p:grpSpPr>
        <p:sp>
          <p:nvSpPr>
            <p:cNvPr id="616" name=""/>
            <p:cNvSpPr/>
            <p:nvPr/>
          </p:nvSpPr>
          <p:spPr>
            <a:xfrm flipH="1">
              <a:off x="4680000" y="4356360"/>
              <a:ext cx="583920" cy="501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314680" y="4356360"/>
              <a:ext cx="768240" cy="468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5110200" y="387684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9" name=""/>
          <p:cNvGrpSpPr/>
          <p:nvPr/>
        </p:nvGrpSpPr>
        <p:grpSpPr>
          <a:xfrm>
            <a:off x="5783400" y="4594320"/>
            <a:ext cx="1402920" cy="981000"/>
            <a:chOff x="5783400" y="4594320"/>
            <a:chExt cx="1402920" cy="981000"/>
          </a:xfrm>
        </p:grpSpPr>
        <p:sp>
          <p:nvSpPr>
            <p:cNvPr id="620" name=""/>
            <p:cNvSpPr/>
            <p:nvPr/>
          </p:nvSpPr>
          <p:spPr>
            <a:xfrm flipH="1">
              <a:off x="5783400" y="5073840"/>
              <a:ext cx="583920" cy="501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6418080" y="5073840"/>
              <a:ext cx="768240" cy="468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6205680" y="45943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3" name=""/>
          <p:cNvSpPr/>
          <p:nvPr/>
        </p:nvSpPr>
        <p:spPr>
          <a:xfrm>
            <a:off x="1001160" y="196848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439360" y="190188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/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1887120" y="282096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/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3541320" y="270360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/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7" name=""/>
          <p:cNvGrpSpPr/>
          <p:nvPr/>
        </p:nvGrpSpPr>
        <p:grpSpPr>
          <a:xfrm>
            <a:off x="1152360" y="2408400"/>
            <a:ext cx="250920" cy="568080"/>
            <a:chOff x="1152360" y="2408400"/>
            <a:chExt cx="250920" cy="568080"/>
          </a:xfrm>
        </p:grpSpPr>
        <p:sp>
          <p:nvSpPr>
            <p:cNvPr id="628" name=""/>
            <p:cNvSpPr/>
            <p:nvPr/>
          </p:nvSpPr>
          <p:spPr>
            <a:xfrm>
              <a:off x="1270080" y="2408400"/>
              <a:ext cx="0" cy="56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1152360" y="2592360"/>
              <a:ext cx="250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0" name=""/>
          <p:cNvGrpSpPr/>
          <p:nvPr/>
        </p:nvGrpSpPr>
        <p:grpSpPr>
          <a:xfrm>
            <a:off x="2206800" y="3313080"/>
            <a:ext cx="250560" cy="568440"/>
            <a:chOff x="2206800" y="3313080"/>
            <a:chExt cx="250560" cy="568440"/>
          </a:xfrm>
        </p:grpSpPr>
        <p:sp>
          <p:nvSpPr>
            <p:cNvPr id="631" name=""/>
            <p:cNvSpPr/>
            <p:nvPr/>
          </p:nvSpPr>
          <p:spPr>
            <a:xfrm>
              <a:off x="2324160" y="3313080"/>
              <a:ext cx="0" cy="56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2206800" y="3497400"/>
              <a:ext cx="250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3" name=""/>
          <p:cNvGrpSpPr/>
          <p:nvPr/>
        </p:nvGrpSpPr>
        <p:grpSpPr>
          <a:xfrm>
            <a:off x="3343320" y="4165560"/>
            <a:ext cx="250920" cy="568440"/>
            <a:chOff x="3343320" y="4165560"/>
            <a:chExt cx="250920" cy="568440"/>
          </a:xfrm>
        </p:grpSpPr>
        <p:sp>
          <p:nvSpPr>
            <p:cNvPr id="634" name=""/>
            <p:cNvSpPr/>
            <p:nvPr/>
          </p:nvSpPr>
          <p:spPr>
            <a:xfrm>
              <a:off x="3461040" y="4165560"/>
              <a:ext cx="0" cy="56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3343320" y="4349880"/>
              <a:ext cx="250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6" name=""/>
          <p:cNvGrpSpPr/>
          <p:nvPr/>
        </p:nvGrpSpPr>
        <p:grpSpPr>
          <a:xfrm>
            <a:off x="4429080" y="4917960"/>
            <a:ext cx="250920" cy="568440"/>
            <a:chOff x="4429080" y="4917960"/>
            <a:chExt cx="250920" cy="568440"/>
          </a:xfrm>
        </p:grpSpPr>
        <p:sp>
          <p:nvSpPr>
            <p:cNvPr id="637" name=""/>
            <p:cNvSpPr/>
            <p:nvPr/>
          </p:nvSpPr>
          <p:spPr>
            <a:xfrm>
              <a:off x="4546800" y="4917960"/>
              <a:ext cx="0" cy="56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4429080" y="5102280"/>
              <a:ext cx="250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9" name=""/>
          <p:cNvGrpSpPr/>
          <p:nvPr/>
        </p:nvGrpSpPr>
        <p:grpSpPr>
          <a:xfrm>
            <a:off x="5481720" y="5600880"/>
            <a:ext cx="250920" cy="568080"/>
            <a:chOff x="5481720" y="5600880"/>
            <a:chExt cx="250920" cy="568080"/>
          </a:xfrm>
        </p:grpSpPr>
        <p:sp>
          <p:nvSpPr>
            <p:cNvPr id="640" name=""/>
            <p:cNvSpPr/>
            <p:nvPr/>
          </p:nvSpPr>
          <p:spPr>
            <a:xfrm>
              <a:off x="5599440" y="5600880"/>
              <a:ext cx="0" cy="56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5481720" y="5784840"/>
              <a:ext cx="250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2" name=""/>
          <p:cNvGrpSpPr/>
          <p:nvPr/>
        </p:nvGrpSpPr>
        <p:grpSpPr>
          <a:xfrm>
            <a:off x="7253280" y="5602320"/>
            <a:ext cx="250920" cy="568440"/>
            <a:chOff x="7253280" y="5602320"/>
            <a:chExt cx="250920" cy="568440"/>
          </a:xfrm>
        </p:grpSpPr>
        <p:sp>
          <p:nvSpPr>
            <p:cNvPr id="643" name=""/>
            <p:cNvSpPr/>
            <p:nvPr/>
          </p:nvSpPr>
          <p:spPr>
            <a:xfrm>
              <a:off x="7371000" y="5602320"/>
              <a:ext cx="0" cy="56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253280" y="5786640"/>
              <a:ext cx="250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5" name=""/>
          <p:cNvSpPr/>
          <p:nvPr/>
        </p:nvSpPr>
        <p:spPr>
          <a:xfrm>
            <a:off x="2957040" y="358920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/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4093560" y="429264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/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7110720" y="51609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5162040" y="499428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/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560480" y="340668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/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5747760" y="417528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/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6766920" y="475920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217F0-7E29-4C5F-BB87-68B5561A03A9}" type="slidenum">
              <a:t>3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D24B98-1273-465F-BE72-28137D13CF2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the poi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study complex nonlinear systems e.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 eco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rnational confli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nancial cri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based models allow us to stud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atial inter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aptive, heterogeneous ag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gents which face costs of information acquisition and proces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sted subsystems - economy, markets, firms, plants, employ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t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40ECE-DC7D-484A-A41B-AE8673BEAA6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798CA5-73BB-4B75-8A61-29463C0957A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project: Russian roulet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521000" y="4218120"/>
            <a:ext cx="1136520" cy="1703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3635280" y="1981080"/>
            <a:ext cx="1136880" cy="170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5810400" y="2000160"/>
            <a:ext cx="1136520" cy="170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3672000" y="4222800"/>
            <a:ext cx="1136520" cy="1703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5796000" y="4275000"/>
            <a:ext cx="1136520" cy="170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1627920" y="4375080"/>
            <a:ext cx="79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in.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3731400" y="4410000"/>
            <a:ext cx="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layer.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807160" y="4427640"/>
            <a:ext cx="113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volver.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3793680" y="2106720"/>
            <a:ext cx="85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layer.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5820480" y="2122560"/>
            <a:ext cx="107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volver.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3" name=""/>
          <p:cNvGrpSpPr/>
          <p:nvPr/>
        </p:nvGrpSpPr>
        <p:grpSpPr>
          <a:xfrm>
            <a:off x="3859200" y="4886280"/>
            <a:ext cx="685800" cy="650880"/>
            <a:chOff x="3859200" y="4886280"/>
            <a:chExt cx="685800" cy="650880"/>
          </a:xfrm>
        </p:grpSpPr>
        <p:sp>
          <p:nvSpPr>
            <p:cNvPr id="664" name=""/>
            <p:cNvSpPr/>
            <p:nvPr/>
          </p:nvSpPr>
          <p:spPr>
            <a:xfrm>
              <a:off x="3859200" y="4886280"/>
              <a:ext cx="585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3859200" y="5052960"/>
              <a:ext cx="468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3859200" y="521964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859200" y="5388120"/>
              <a:ext cx="30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3859200" y="5537160"/>
              <a:ext cx="33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9" name=""/>
          <p:cNvGrpSpPr/>
          <p:nvPr/>
        </p:nvGrpSpPr>
        <p:grpSpPr>
          <a:xfrm>
            <a:off x="5999040" y="4954680"/>
            <a:ext cx="685800" cy="650880"/>
            <a:chOff x="5999040" y="4954680"/>
            <a:chExt cx="685800" cy="650880"/>
          </a:xfrm>
        </p:grpSpPr>
        <p:sp>
          <p:nvSpPr>
            <p:cNvPr id="670" name=""/>
            <p:cNvSpPr/>
            <p:nvPr/>
          </p:nvSpPr>
          <p:spPr>
            <a:xfrm>
              <a:off x="5999040" y="4954680"/>
              <a:ext cx="585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5999040" y="5121360"/>
              <a:ext cx="468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5999040" y="528804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5999040" y="5456520"/>
              <a:ext cx="30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5999040" y="5605560"/>
              <a:ext cx="33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5" name=""/>
          <p:cNvGrpSpPr/>
          <p:nvPr/>
        </p:nvGrpSpPr>
        <p:grpSpPr>
          <a:xfrm>
            <a:off x="3846600" y="2784600"/>
            <a:ext cx="685800" cy="650880"/>
            <a:chOff x="3846600" y="2784600"/>
            <a:chExt cx="685800" cy="650880"/>
          </a:xfrm>
        </p:grpSpPr>
        <p:sp>
          <p:nvSpPr>
            <p:cNvPr id="676" name=""/>
            <p:cNvSpPr/>
            <p:nvPr/>
          </p:nvSpPr>
          <p:spPr>
            <a:xfrm>
              <a:off x="3846600" y="2784600"/>
              <a:ext cx="585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3846600" y="2951280"/>
              <a:ext cx="468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3846600" y="311796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3846600" y="3286440"/>
              <a:ext cx="30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3846600" y="3435480"/>
              <a:ext cx="33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1" name=""/>
          <p:cNvGrpSpPr/>
          <p:nvPr/>
        </p:nvGrpSpPr>
        <p:grpSpPr>
          <a:xfrm>
            <a:off x="5987880" y="2770200"/>
            <a:ext cx="685800" cy="650880"/>
            <a:chOff x="5987880" y="2770200"/>
            <a:chExt cx="685800" cy="650880"/>
          </a:xfrm>
        </p:grpSpPr>
        <p:sp>
          <p:nvSpPr>
            <p:cNvPr id="682" name=""/>
            <p:cNvSpPr/>
            <p:nvPr/>
          </p:nvSpPr>
          <p:spPr>
            <a:xfrm>
              <a:off x="5987880" y="2770200"/>
              <a:ext cx="585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5987880" y="2936880"/>
              <a:ext cx="468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5987880" y="310356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5987880" y="3272040"/>
              <a:ext cx="30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5987880" y="3421080"/>
              <a:ext cx="33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7" name=""/>
          <p:cNvGrpSpPr/>
          <p:nvPr/>
        </p:nvGrpSpPr>
        <p:grpSpPr>
          <a:xfrm>
            <a:off x="1709640" y="4975200"/>
            <a:ext cx="685800" cy="650880"/>
            <a:chOff x="1709640" y="4975200"/>
            <a:chExt cx="685800" cy="650880"/>
          </a:xfrm>
        </p:grpSpPr>
        <p:sp>
          <p:nvSpPr>
            <p:cNvPr id="688" name=""/>
            <p:cNvSpPr/>
            <p:nvPr/>
          </p:nvSpPr>
          <p:spPr>
            <a:xfrm>
              <a:off x="1709640" y="4975200"/>
              <a:ext cx="585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1709640" y="5141880"/>
              <a:ext cx="468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1709640" y="530856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1709640" y="5477040"/>
              <a:ext cx="30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709640" y="5626080"/>
              <a:ext cx="33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3" name=""/>
          <p:cNvSpPr/>
          <p:nvPr/>
        </p:nvSpPr>
        <p:spPr>
          <a:xfrm>
            <a:off x="3408480" y="1711440"/>
            <a:ext cx="1738080" cy="442728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5532480" y="1698480"/>
            <a:ext cx="1738440" cy="442764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BA910-4B98-4AD4-9E89-3A87CDADB742}" type="slidenum">
              <a:t>4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06C427-0EB5-461B-BFAB-97175E37406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/>
          </p:nvPr>
        </p:nvSpPr>
        <p:spPr>
          <a:xfrm>
            <a:off x="466704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.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@interface Player: SwarmObject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 name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 alive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d other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init: (int) n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setOther: o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(BOOL)isAlive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play: r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@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4876920" y="3911760"/>
            <a:ext cx="1663560" cy="13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objects: Play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riables: Player kn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s own 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ther he is al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enity of other play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havior: Player c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 to “aliv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revolv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7194600" y="3767040"/>
            <a:ext cx="825480" cy="825480"/>
          </a:xfrm>
          <a:prstGeom prst="ellipse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7264440" y="4189320"/>
            <a:ext cx="723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4838760" y="2362320"/>
            <a:ext cx="1663560" cy="13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02" name=""/>
          <p:cNvCxnSpPr>
            <a:stCxn id="699" idx="4"/>
            <a:endCxn id="696" idx="2"/>
          </p:cNvCxnSpPr>
          <p:nvPr/>
        </p:nvCxnSpPr>
        <p:spPr>
          <a:xfrm rot="5400000">
            <a:off x="6337440" y="3962880"/>
            <a:ext cx="640440" cy="1899360"/>
          </a:xfrm>
          <a:prstGeom prst="bentConnector3">
            <a:avLst>
              <a:gd name="adj1" fmla="val 13571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3" name=""/>
          <p:cNvCxnSpPr>
            <a:stCxn id="699" idx="0"/>
            <a:endCxn id="701" idx="3"/>
          </p:cNvCxnSpPr>
          <p:nvPr/>
        </p:nvCxnSpPr>
        <p:spPr>
          <a:xfrm flipV="1" rot="16200000">
            <a:off x="6681960" y="2841840"/>
            <a:ext cx="745200" cy="1105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30712-FC8C-4950-8F99-5CE02A5501F0}" type="slidenum">
              <a:t>41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D4E59D-2F13-409E-B89D-7D7A691DC2B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objects: Revolv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riables: Revolver kn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mber of bull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havior: Gun c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ty bull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ad new bull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gage trigger and return result (fired, didn’t fi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6704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@interface Revolver: SwarmObject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 bullets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empty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load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(BOOL)trigger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@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6991200" y="3119400"/>
            <a:ext cx="825480" cy="82548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08" name=""/>
          <p:cNvCxnSpPr>
            <a:stCxn id="707" idx="4"/>
          </p:cNvCxnSpPr>
          <p:nvPr/>
        </p:nvCxnSpPr>
        <p:spPr>
          <a:xfrm rot="5400000">
            <a:off x="6134400" y="3315240"/>
            <a:ext cx="640440" cy="1899360"/>
          </a:xfrm>
          <a:prstGeom prst="bentConnector3">
            <a:avLst>
              <a:gd name="adj1" fmla="val 13571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9" name=""/>
          <p:cNvCxnSpPr>
            <a:stCxn id="707" idx="0"/>
          </p:cNvCxnSpPr>
          <p:nvPr/>
        </p:nvCxnSpPr>
        <p:spPr>
          <a:xfrm flipV="1" rot="16200000">
            <a:off x="6478920" y="2194200"/>
            <a:ext cx="745200" cy="1105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10" name=""/>
          <p:cNvSpPr/>
          <p:nvPr/>
        </p:nvSpPr>
        <p:spPr>
          <a:xfrm>
            <a:off x="7048440" y="3556080"/>
            <a:ext cx="698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58B56-82EB-4D62-AFA1-9E04473B409B}" type="slidenum">
              <a:t>42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B8B96D-B443-4214-AACC-94F3310F0EE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it wor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s are created in main.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 hands empty revolver object off to player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yer A loads bullet and pulls trigg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6704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layer A is alive hands gun to B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eturns own id to m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yer B loads bullet and pulls trig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layer B is alive hands gun to A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eturns own i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tc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71AAE-FB9D-486F-A0A5-CC2EB5D58078}" type="slidenum">
              <a:t>4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02DB09-B172-4C73-8B88-6DF024E272E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"/>
          <p:cNvSpPr/>
          <p:nvPr/>
        </p:nvSpPr>
        <p:spPr>
          <a:xfrm>
            <a:off x="5460840" y="1574640"/>
            <a:ext cx="2578320" cy="23878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15" name=""/>
          <p:cNvCxnSpPr>
            <a:endCxn id="716" idx="2"/>
          </p:cNvCxnSpPr>
          <p:nvPr/>
        </p:nvCxnSpPr>
        <p:spPr>
          <a:xfrm rot="10800000">
            <a:off x="1370880" y="2401200"/>
            <a:ext cx="4687200" cy="3396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7" name=""/>
          <p:cNvCxnSpPr>
            <a:stCxn id="718" idx="2"/>
            <a:endCxn id="716" idx="2"/>
          </p:cNvCxnSpPr>
          <p:nvPr/>
        </p:nvCxnSpPr>
        <p:spPr>
          <a:xfrm rot="10800000">
            <a:off x="1370880" y="2401200"/>
            <a:ext cx="2946960" cy="2405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it works (cont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787320" y="1574640"/>
            <a:ext cx="1168560" cy="876600"/>
          </a:xfrm>
          <a:prstGeom prst="flowChartDocumen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.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825480" y="2610000"/>
            <a:ext cx="758880" cy="736560"/>
          </a:xfrm>
          <a:prstGeom prst="ellipse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1816200" y="2711520"/>
            <a:ext cx="574560" cy="5587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2" name=""/>
          <p:cNvCxnSpPr>
            <a:stCxn id="720" idx="6"/>
            <a:endCxn id="721" idx="2"/>
          </p:cNvCxnSpPr>
          <p:nvPr/>
        </p:nvCxnSpPr>
        <p:spPr>
          <a:xfrm>
            <a:off x="1584360" y="2977920"/>
            <a:ext cx="232560" cy="133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23" name=""/>
          <p:cNvSpPr/>
          <p:nvPr/>
        </p:nvSpPr>
        <p:spPr>
          <a:xfrm>
            <a:off x="2577960" y="2610000"/>
            <a:ext cx="758880" cy="736560"/>
          </a:xfrm>
          <a:prstGeom prst="ellipse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4" name=""/>
          <p:cNvCxnSpPr/>
          <p:nvPr/>
        </p:nvCxnSpPr>
        <p:spPr>
          <a:xfrm>
            <a:off x="2371680" y="2965320"/>
            <a:ext cx="232560" cy="1368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25" name=""/>
          <p:cNvSpPr/>
          <p:nvPr/>
        </p:nvSpPr>
        <p:spPr>
          <a:xfrm>
            <a:off x="2565360" y="3473280"/>
            <a:ext cx="758880" cy="736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3556080" y="3575160"/>
            <a:ext cx="574560" cy="5587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7" name=""/>
          <p:cNvCxnSpPr>
            <a:stCxn id="725" idx="6"/>
            <a:endCxn id="726" idx="2"/>
          </p:cNvCxnSpPr>
          <p:nvPr/>
        </p:nvCxnSpPr>
        <p:spPr>
          <a:xfrm>
            <a:off x="3324240" y="3841560"/>
            <a:ext cx="232560" cy="133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28" name=""/>
          <p:cNvSpPr/>
          <p:nvPr/>
        </p:nvSpPr>
        <p:spPr>
          <a:xfrm>
            <a:off x="4317840" y="3473280"/>
            <a:ext cx="758880" cy="736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4317840" y="4438800"/>
            <a:ext cx="758880" cy="736560"/>
          </a:xfrm>
          <a:prstGeom prst="ellipse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5308560" y="4540320"/>
            <a:ext cx="574560" cy="5587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30" name=""/>
          <p:cNvCxnSpPr>
            <a:stCxn id="718" idx="6"/>
            <a:endCxn id="729" idx="2"/>
          </p:cNvCxnSpPr>
          <p:nvPr/>
        </p:nvCxnSpPr>
        <p:spPr>
          <a:xfrm>
            <a:off x="5076720" y="4806720"/>
            <a:ext cx="232560" cy="133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1" name=""/>
          <p:cNvCxnSpPr/>
          <p:nvPr/>
        </p:nvCxnSpPr>
        <p:spPr>
          <a:xfrm>
            <a:off x="4644720" y="4260960"/>
            <a:ext cx="3960" cy="2419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2" name=""/>
          <p:cNvCxnSpPr/>
          <p:nvPr/>
        </p:nvCxnSpPr>
        <p:spPr>
          <a:xfrm>
            <a:off x="2917440" y="3295800"/>
            <a:ext cx="3960" cy="2419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3" name=""/>
          <p:cNvCxnSpPr>
            <a:stCxn id="723" idx="0"/>
            <a:endCxn id="716" idx="3"/>
          </p:cNvCxnSpPr>
          <p:nvPr/>
        </p:nvCxnSpPr>
        <p:spPr>
          <a:xfrm flipV="1" rot="16200000">
            <a:off x="2157840" y="1810080"/>
            <a:ext cx="597600" cy="1002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4" name=""/>
          <p:cNvSpPr/>
          <p:nvPr/>
        </p:nvSpPr>
        <p:spPr>
          <a:xfrm>
            <a:off x="6083280" y="4464000"/>
            <a:ext cx="758880" cy="736560"/>
          </a:xfrm>
          <a:prstGeom prst="ellipse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35" name=""/>
          <p:cNvCxnSpPr/>
          <p:nvPr/>
        </p:nvCxnSpPr>
        <p:spPr>
          <a:xfrm>
            <a:off x="5877000" y="4819320"/>
            <a:ext cx="232560" cy="133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6" name=""/>
          <p:cNvSpPr/>
          <p:nvPr/>
        </p:nvSpPr>
        <p:spPr>
          <a:xfrm>
            <a:off x="6070680" y="5327640"/>
            <a:ext cx="758880" cy="7365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7061040" y="5429160"/>
            <a:ext cx="574920" cy="5587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38" name=""/>
          <p:cNvCxnSpPr>
            <a:stCxn id="736" idx="6"/>
            <a:endCxn id="737" idx="2"/>
          </p:cNvCxnSpPr>
          <p:nvPr/>
        </p:nvCxnSpPr>
        <p:spPr>
          <a:xfrm>
            <a:off x="6829200" y="5695560"/>
            <a:ext cx="232200" cy="133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9" name=""/>
          <p:cNvSpPr/>
          <p:nvPr/>
        </p:nvSpPr>
        <p:spPr>
          <a:xfrm>
            <a:off x="7823160" y="5327640"/>
            <a:ext cx="758880" cy="7365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0" name=""/>
          <p:cNvCxnSpPr/>
          <p:nvPr/>
        </p:nvCxnSpPr>
        <p:spPr>
          <a:xfrm>
            <a:off x="7616880" y="5682960"/>
            <a:ext cx="232560" cy="133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1" name=""/>
          <p:cNvCxnSpPr/>
          <p:nvPr/>
        </p:nvCxnSpPr>
        <p:spPr>
          <a:xfrm>
            <a:off x="6422760" y="5149800"/>
            <a:ext cx="3960" cy="2419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42" name=""/>
          <p:cNvSpPr/>
          <p:nvPr/>
        </p:nvSpPr>
        <p:spPr>
          <a:xfrm>
            <a:off x="2301120" y="2098800"/>
            <a:ext cx="133272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A d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2309040" y="4575240"/>
            <a:ext cx="131616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B d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2301120" y="5527800"/>
            <a:ext cx="133272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A d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5" name=""/>
          <p:cNvCxnSpPr/>
          <p:nvPr/>
        </p:nvCxnSpPr>
        <p:spPr>
          <a:xfrm>
            <a:off x="8238600" y="6039000"/>
            <a:ext cx="3960" cy="2419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6" name=""/>
          <p:cNvCxnSpPr/>
          <p:nvPr/>
        </p:nvCxnSpPr>
        <p:spPr>
          <a:xfrm>
            <a:off x="4098960" y="3816000"/>
            <a:ext cx="232560" cy="133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47" name=""/>
          <p:cNvSpPr/>
          <p:nvPr/>
        </p:nvSpPr>
        <p:spPr>
          <a:xfrm>
            <a:off x="5727600" y="1619280"/>
            <a:ext cx="758880" cy="736560"/>
          </a:xfrm>
          <a:prstGeom prst="ellipse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5753160" y="2368440"/>
            <a:ext cx="758880" cy="7365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6449040" y="1781280"/>
            <a:ext cx="142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Player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6448680" y="2568600"/>
            <a:ext cx="141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Player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6448320" y="3254400"/>
            <a:ext cx="147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Revol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5880240" y="3143160"/>
            <a:ext cx="574560" cy="5587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0BD79-ED23-400A-8792-BA448DD639B3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9DC0D8-4B1F-44A8-A1EF-419E0385084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it works (cont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2219400" y="2917800"/>
            <a:ext cx="1009440" cy="9828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v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3784680" y="2946240"/>
            <a:ext cx="923760" cy="927360"/>
          </a:xfrm>
          <a:prstGeom prst="ellipse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812880" y="2946240"/>
            <a:ext cx="923760" cy="927360"/>
          </a:xfrm>
          <a:prstGeom prst="ellipse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4938840" y="2247840"/>
            <a:ext cx="2622240" cy="368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1 THEN return self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8" name=""/>
          <p:cNvCxnSpPr/>
          <p:nvPr/>
        </p:nvCxnSpPr>
        <p:spPr>
          <a:xfrm>
            <a:off x="1787400" y="3403440"/>
            <a:ext cx="232560" cy="1368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9" name=""/>
          <p:cNvCxnSpPr/>
          <p:nvPr/>
        </p:nvCxnSpPr>
        <p:spPr>
          <a:xfrm>
            <a:off x="3336840" y="3403440"/>
            <a:ext cx="232560" cy="1368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0" name=""/>
          <p:cNvCxnSpPr/>
          <p:nvPr/>
        </p:nvCxnSpPr>
        <p:spPr>
          <a:xfrm>
            <a:off x="4187520" y="4019040"/>
            <a:ext cx="3960" cy="24228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1" name=""/>
          <p:cNvCxnSpPr/>
          <p:nvPr/>
        </p:nvCxnSpPr>
        <p:spPr>
          <a:xfrm flipV="1">
            <a:off x="4187880" y="2629800"/>
            <a:ext cx="2160" cy="25308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2" name=""/>
          <p:cNvSpPr/>
          <p:nvPr/>
        </p:nvSpPr>
        <p:spPr>
          <a:xfrm>
            <a:off x="4876200" y="4229280"/>
            <a:ext cx="3471120" cy="368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0 THEN send message B play: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3809880" y="4235400"/>
            <a:ext cx="758880" cy="7365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813240" y="4280040"/>
            <a:ext cx="2376720" cy="6426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nd message R: lo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nd message R: trigg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1499760" y="2222640"/>
            <a:ext cx="2407320" cy="6426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heads THEN return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LSE return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3276720" y="2870280"/>
            <a:ext cx="114120" cy="35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 flipV="1">
            <a:off x="1790640" y="3593880"/>
            <a:ext cx="763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 flipH="1" flipV="1">
            <a:off x="4406760" y="4140000"/>
            <a:ext cx="470160" cy="25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 flipH="1">
            <a:off x="4381560" y="2438280"/>
            <a:ext cx="558720" cy="2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84B91-29F2-48DE-89A6-4E511BE7BACC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BC6997-5756-4B33-B416-BC7770C2457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resour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jective-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ew textbooks available because language is simply a superset of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 resource: Manual from Apple websi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 website at SFI: Code, manuals, lin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r community, mailinglists (and archiv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g, steal and borrow other people’s code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7D6B8-146A-4459-B9FB-0511FF837846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3CF656-DB93-4D24-AD62-3F132105F13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to find hel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in Swarm webs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ttp://www.santafe.edu/projects/swa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Objective-C manu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 to above and look under Objective-C resour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bscribing to mailingli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d mail to majordomo@santafe.edu wi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scribe swarm-support &lt;Your E-mail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E39AB-2052-4C51-B582-C2EDBD328F04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C3C79C-BDF4-4BA8-B445-F444F3BB8CD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ottom up model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862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805440" y="4373640"/>
            <a:ext cx="1235160" cy="1376280"/>
          </a:xfrm>
          <a:prstGeom prst="flowChartMultidocument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492440" y="3965040"/>
            <a:ext cx="1490760" cy="1636560"/>
          </a:xfrm>
          <a:custGeom>
            <a:avLst/>
            <a:gdLst>
              <a:gd name="textAreaLeft" fmla="*/ 0 w 1490760"/>
              <a:gd name="textAreaRight" fmla="*/ 1491120 w 1490760"/>
              <a:gd name="textAreaTop" fmla="*/ 0 h 1636560"/>
              <a:gd name="textAreaBottom" fmla="*/ 1636920 h 1636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956040" y="225432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118120" y="430848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840360" y="2909880"/>
            <a:ext cx="787680" cy="825480"/>
          </a:xfrm>
          <a:custGeom>
            <a:avLst/>
            <a:gdLst/>
            <a:ahLst/>
            <a:rect l="l" t="t" r="r" b="b"/>
            <a:pathLst>
              <a:path w="496" h="520">
                <a:moveTo>
                  <a:pt x="23" y="0"/>
                </a:moveTo>
                <a:cubicBezTo>
                  <a:pt x="252" y="76"/>
                  <a:pt x="482" y="152"/>
                  <a:pt x="489" y="233"/>
                </a:cubicBezTo>
                <a:cubicBezTo>
                  <a:pt x="496" y="314"/>
                  <a:pt x="134" y="520"/>
                  <a:pt x="67" y="489"/>
                </a:cubicBezTo>
                <a:cubicBezTo>
                  <a:pt x="0" y="458"/>
                  <a:pt x="82" y="121"/>
                  <a:pt x="89" y="45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29280" y="3121200"/>
            <a:ext cx="317520" cy="3711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100920" y="2786040"/>
            <a:ext cx="828360" cy="264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224400" y="3703680"/>
            <a:ext cx="687240" cy="3888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endCxn id="51" idx="1"/>
          </p:cNvCxnSpPr>
          <p:nvPr/>
        </p:nvCxnSpPr>
        <p:spPr>
          <a:xfrm>
            <a:off x="6435360" y="4498920"/>
            <a:ext cx="370440" cy="564480"/>
          </a:xfrm>
          <a:prstGeom prst="bentConnector3">
            <a:avLst>
              <a:gd name="adj1" fmla="val 49708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0" name=""/>
          <p:cNvSpPr/>
          <p:nvPr/>
        </p:nvSpPr>
        <p:spPr>
          <a:xfrm>
            <a:off x="4005360" y="3616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4840" y="5485320"/>
            <a:ext cx="260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ganizations of ag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122640" y="3809160"/>
            <a:ext cx="177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imate ag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043400" y="4883760"/>
            <a:ext cx="66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25280" y="5898240"/>
            <a:ext cx="209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tificial 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00040" y="3718440"/>
            <a:ext cx="11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486400" y="480060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048120" y="1981080"/>
            <a:ext cx="3370320" cy="39625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788000" y="2068560"/>
            <a:ext cx="1482480" cy="635040"/>
          </a:xfrm>
          <a:prstGeom prst="cube">
            <a:avLst>
              <a:gd name="adj" fmla="val 25000"/>
            </a:avLst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473720" y="2273400"/>
            <a:ext cx="1482480" cy="635040"/>
          </a:xfrm>
          <a:prstGeom prst="cube">
            <a:avLst>
              <a:gd name="adj" fmla="val 25000"/>
            </a:avLst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311640" y="235728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ff99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240080" y="341316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382280" y="2940840"/>
            <a:ext cx="191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animate ag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495680" y="449568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800600" y="4952880"/>
            <a:ext cx="476280" cy="441360"/>
          </a:xfrm>
          <a:prstGeom prst="smileyFace">
            <a:avLst>
              <a:gd name="adj" fmla="val 518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246480" y="342900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33cc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649680" y="284652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41360" y="1619280"/>
            <a:ext cx="3048120" cy="2636640"/>
          </a:xfrm>
          <a:prstGeom prst="cloudCallout">
            <a:avLst>
              <a:gd name="adj1" fmla="val 76564"/>
              <a:gd name="adj2" fmla="val 2001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cond&g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h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ction1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ction2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8" name=""/>
          <p:cNvCxnSpPr/>
          <p:nvPr/>
        </p:nvCxnSpPr>
        <p:spPr>
          <a:xfrm flipH="1" rot="16200000">
            <a:off x="3451680" y="4111200"/>
            <a:ext cx="847080" cy="1011960"/>
          </a:xfrm>
          <a:prstGeom prst="curvedConnector2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9" name=""/>
          <p:cNvCxnSpPr/>
          <p:nvPr/>
        </p:nvCxnSpPr>
        <p:spPr>
          <a:xfrm flipV="1">
            <a:off x="4925520" y="3338640"/>
            <a:ext cx="623160" cy="295560"/>
          </a:xfrm>
          <a:prstGeom prst="curvedConnector2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36650-9F1C-4BB3-927D-47996A3A3C2A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EB3D20-298A-4D71-BC58-E82B9C3C04E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y of Swa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unched in 1994 by Chris Langton at Santa Fe Institute in New Mexico (Contributors: Chris Langton, Roger Burkhart, Nelson Minar, Manor Askenazi, Glen Ropella, Sven Thommesen, Marcus Daniels, Alex Lancaster, Vladimir Jojic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ate a shared simulation platform for AB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acilitate the development of mod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eased in beta in ‘95, 1.0 release in January ‘97, 1.1 with Win95/NT support April ‘98, 2.0 with Java April ‘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11F84-77EB-4701-B470-027B665D78D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D57D74-68E9-43CA-A752-982F80FA840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sic fa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 is a collection of object oriented software libraries which provide support for simulation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s build simulations by incorporating Swarm library objects in their own 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braries are written 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ive-C : A superset of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cl/Tk: Scripting language and GUI widgets (transparent to user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ailable for Unix and Windows 95/98/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A038F-2593-477B-8CE1-D15E01BFF86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48DB45-6578-4BA3-BCAE-FE675477A83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warm model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862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rot="16200000">
            <a:off x="2867040" y="3952440"/>
            <a:ext cx="1490760" cy="1636920"/>
          </a:xfrm>
          <a:custGeom>
            <a:avLst/>
            <a:gdLst>
              <a:gd name="textAreaLeft" fmla="*/ 0 w 1490760"/>
              <a:gd name="textAreaRight" fmla="*/ 1491120 w 1490760"/>
              <a:gd name="textAreaTop" fmla="*/ 0 h 1636920"/>
              <a:gd name="textAreaBottom" fmla="*/ 1637280 h 1636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330280" y="2241720"/>
            <a:ext cx="476280" cy="441000"/>
          </a:xfrm>
          <a:prstGeom prst="smileyFace">
            <a:avLst>
              <a:gd name="adj" fmla="val 9282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492360" y="429588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379600" y="3603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179440" y="5472720"/>
            <a:ext cx="260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ganizations of ag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496880" y="3796200"/>
            <a:ext cx="177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imate ag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618640" y="5885280"/>
            <a:ext cx="97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860640" y="478800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422360" y="1968480"/>
            <a:ext cx="3370320" cy="39625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162240" y="2055960"/>
            <a:ext cx="1482840" cy="634680"/>
          </a:xfrm>
          <a:prstGeom prst="cube">
            <a:avLst>
              <a:gd name="adj" fmla="val 25000"/>
            </a:avLst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47960" y="2260440"/>
            <a:ext cx="1482840" cy="635040"/>
          </a:xfrm>
          <a:prstGeom prst="cube">
            <a:avLst>
              <a:gd name="adj" fmla="val 25000"/>
            </a:avLst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685880" y="234468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614680" y="340056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ff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56520" y="2927880"/>
            <a:ext cx="191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animate ag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870280" y="448308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174840" y="4940280"/>
            <a:ext cx="476280" cy="441360"/>
          </a:xfrm>
          <a:prstGeom prst="smileyFace">
            <a:avLst>
              <a:gd name="adj" fmla="val 518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620720" y="341640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33cc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023920" y="283356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4" name=""/>
          <p:cNvCxnSpPr/>
          <p:nvPr/>
        </p:nvCxnSpPr>
        <p:spPr>
          <a:xfrm flipH="1" rot="16200000">
            <a:off x="1825920" y="4098600"/>
            <a:ext cx="847080" cy="1011960"/>
          </a:xfrm>
          <a:prstGeom prst="curvedConnector2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/>
          <p:nvPr/>
        </p:nvCxnSpPr>
        <p:spPr>
          <a:xfrm flipV="1">
            <a:off x="3300480" y="3324960"/>
            <a:ext cx="622800" cy="296280"/>
          </a:xfrm>
          <a:prstGeom prst="curvedConnector2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6" name=""/>
          <p:cNvSpPr/>
          <p:nvPr/>
        </p:nvSpPr>
        <p:spPr>
          <a:xfrm>
            <a:off x="4952880" y="1955880"/>
            <a:ext cx="3370320" cy="396216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970240" y="5860080"/>
            <a:ext cx="129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ezbin" descr=""/>
          <p:cNvPicPr/>
          <p:nvPr/>
        </p:nvPicPr>
        <p:blipFill>
          <a:blip r:embed="rId1"/>
          <a:stretch/>
        </p:blipFill>
        <p:spPr>
          <a:xfrm>
            <a:off x="6908760" y="2220840"/>
            <a:ext cx="1231920" cy="83664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6959520" y="3200400"/>
            <a:ext cx="1136880" cy="102384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6996240" y="3219480"/>
            <a:ext cx="1063440" cy="974520"/>
          </a:xfrm>
          <a:prstGeom prst="rect">
            <a:avLst/>
          </a:prstGeom>
          <a:ln w="0">
            <a:noFill/>
          </a:ln>
        </p:spPr>
      </p:pic>
      <p:cxnSp>
        <p:nvCxnSpPr>
          <p:cNvPr id="111" name=""/>
          <p:cNvCxnSpPr>
            <a:stCxn id="94" idx="3"/>
            <a:endCxn id="112" idx="2"/>
          </p:cNvCxnSpPr>
          <p:nvPr/>
        </p:nvCxnSpPr>
        <p:spPr>
          <a:xfrm flipV="1">
            <a:off x="4792680" y="3584160"/>
            <a:ext cx="443520" cy="365760"/>
          </a:xfrm>
          <a:prstGeom prst="bentConnector3">
            <a:avLst>
              <a:gd name="adj1" fmla="val 49796"/>
            </a:avLst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5235480" y="2527200"/>
            <a:ext cx="1317600" cy="571680"/>
          </a:xfrm>
          <a:prstGeom prst="cube">
            <a:avLst>
              <a:gd name="adj" fmla="val 25000"/>
            </a:avLst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235480" y="3251160"/>
            <a:ext cx="1254240" cy="533520"/>
          </a:xfrm>
          <a:prstGeom prst="cube">
            <a:avLst>
              <a:gd name="adj" fmla="val 25000"/>
            </a:avLst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235480" y="4000680"/>
            <a:ext cx="1279800" cy="571320"/>
          </a:xfrm>
          <a:prstGeom prst="cube">
            <a:avLst>
              <a:gd name="adj" fmla="val 25000"/>
            </a:avLst>
          </a:prstGeom>
          <a:solidFill>
            <a:srgbClr val="33cc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235480" y="4749840"/>
            <a:ext cx="1279800" cy="571320"/>
          </a:xfrm>
          <a:prstGeom prst="cube">
            <a:avLst>
              <a:gd name="adj" fmla="val 25000"/>
            </a:avLst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6" name=""/>
          <p:cNvCxnSpPr>
            <a:stCxn id="113" idx="2"/>
            <a:endCxn id="94" idx="3"/>
          </p:cNvCxnSpPr>
          <p:nvPr/>
        </p:nvCxnSpPr>
        <p:spPr>
          <a:xfrm flipV="1" rot="10800000">
            <a:off x="4791960" y="2883240"/>
            <a:ext cx="443520" cy="1065960"/>
          </a:xfrm>
          <a:prstGeom prst="bentConnector3">
            <a:avLst>
              <a:gd name="adj1" fmla="val 49796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7" name=""/>
          <p:cNvCxnSpPr>
            <a:stCxn id="114" idx="2"/>
            <a:endCxn id="94" idx="3"/>
          </p:cNvCxnSpPr>
          <p:nvPr/>
        </p:nvCxnSpPr>
        <p:spPr>
          <a:xfrm rot="10800000">
            <a:off x="4791960" y="3948840"/>
            <a:ext cx="443520" cy="408960"/>
          </a:xfrm>
          <a:prstGeom prst="bentConnector3">
            <a:avLst>
              <a:gd name="adj1" fmla="val 49796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8" name=""/>
          <p:cNvCxnSpPr>
            <a:stCxn id="115" idx="2"/>
            <a:endCxn id="94" idx="3"/>
          </p:cNvCxnSpPr>
          <p:nvPr/>
        </p:nvCxnSpPr>
        <p:spPr>
          <a:xfrm rot="10800000">
            <a:off x="4791960" y="3948840"/>
            <a:ext cx="443520" cy="1157760"/>
          </a:xfrm>
          <a:prstGeom prst="bentConnector3">
            <a:avLst>
              <a:gd name="adj1" fmla="val 49796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pic>
        <p:nvPicPr>
          <p:cNvPr id="119" name="modelprobe" descr=""/>
          <p:cNvPicPr/>
          <p:nvPr/>
        </p:nvPicPr>
        <p:blipFill>
          <a:blip r:embed="rId3"/>
          <a:stretch/>
        </p:blipFill>
        <p:spPr>
          <a:xfrm>
            <a:off x="6883560" y="4419720"/>
            <a:ext cx="1282680" cy="105084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3" idx="4"/>
            <a:endCxn id="108" idx="1"/>
          </p:cNvCxnSpPr>
          <p:nvPr/>
        </p:nvCxnSpPr>
        <p:spPr>
          <a:xfrm flipV="1">
            <a:off x="6409800" y="2639520"/>
            <a:ext cx="499320" cy="244800"/>
          </a:xfrm>
          <a:prstGeom prst="bentConnector3">
            <a:avLst>
              <a:gd name="adj1" fmla="val 64285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21" name=""/>
          <p:cNvCxnSpPr>
            <a:stCxn id="112" idx="5"/>
            <a:endCxn id="110" idx="1"/>
          </p:cNvCxnSpPr>
          <p:nvPr/>
        </p:nvCxnSpPr>
        <p:spPr>
          <a:xfrm>
            <a:off x="6489360" y="3451320"/>
            <a:ext cx="506880" cy="255960"/>
          </a:xfrm>
          <a:prstGeom prst="bentConnector3">
            <a:avLst>
              <a:gd name="adj1" fmla="val 49822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22" name=""/>
          <p:cNvCxnSpPr>
            <a:stCxn id="114" idx="5"/>
            <a:endCxn id="109" idx="1"/>
          </p:cNvCxnSpPr>
          <p:nvPr/>
        </p:nvCxnSpPr>
        <p:spPr>
          <a:xfrm flipV="1">
            <a:off x="6515280" y="3712680"/>
            <a:ext cx="444960" cy="502560"/>
          </a:xfrm>
          <a:prstGeom prst="bentConnector3">
            <a:avLst>
              <a:gd name="adj1" fmla="val 52469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23" name=""/>
          <p:cNvCxnSpPr>
            <a:stCxn id="119" idx="1"/>
            <a:endCxn id="115" idx="4"/>
          </p:cNvCxnSpPr>
          <p:nvPr/>
        </p:nvCxnSpPr>
        <p:spPr>
          <a:xfrm flipV="1" rot="10800000">
            <a:off x="6371640" y="4944600"/>
            <a:ext cx="511920" cy="162720"/>
          </a:xfrm>
          <a:prstGeom prst="bentConnector3">
            <a:avLst>
              <a:gd name="adj1" fmla="val 3596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F24B7-1E01-4E35-AEA6-3E60F9921233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F7CDC1-C84C-41B2-A112-F0E7FB78587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bject Oriented Programm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825480" y="2424240"/>
            <a:ext cx="2828880" cy="2815920"/>
          </a:xfrm>
          <a:prstGeom prst="ellipse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606680" y="3147840"/>
            <a:ext cx="1528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742040" y="4129200"/>
            <a:ext cx="1253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083040" y="3065400"/>
            <a:ext cx="904680" cy="317520"/>
          </a:xfrm>
          <a:custGeom>
            <a:avLst/>
            <a:gdLst/>
            <a:ahLst/>
            <a:rect l="l" t="t" r="r" b="b"/>
            <a:pathLst>
              <a:path w="570" h="200">
                <a:moveTo>
                  <a:pt x="0" y="199"/>
                </a:moveTo>
                <a:lnTo>
                  <a:pt x="98" y="98"/>
                </a:lnTo>
                <a:lnTo>
                  <a:pt x="180" y="44"/>
                </a:lnTo>
                <a:lnTo>
                  <a:pt x="253" y="8"/>
                </a:lnTo>
                <a:lnTo>
                  <a:pt x="288" y="0"/>
                </a:lnTo>
                <a:lnTo>
                  <a:pt x="307" y="8"/>
                </a:lnTo>
                <a:lnTo>
                  <a:pt x="325" y="26"/>
                </a:lnTo>
                <a:lnTo>
                  <a:pt x="343" y="53"/>
                </a:lnTo>
                <a:lnTo>
                  <a:pt x="352" y="90"/>
                </a:lnTo>
                <a:lnTo>
                  <a:pt x="352" y="117"/>
                </a:lnTo>
                <a:lnTo>
                  <a:pt x="361" y="144"/>
                </a:lnTo>
                <a:lnTo>
                  <a:pt x="406" y="134"/>
                </a:lnTo>
                <a:lnTo>
                  <a:pt x="443" y="126"/>
                </a:lnTo>
                <a:lnTo>
                  <a:pt x="478" y="107"/>
                </a:lnTo>
                <a:lnTo>
                  <a:pt x="514" y="98"/>
                </a:lnTo>
                <a:lnTo>
                  <a:pt x="533" y="98"/>
                </a:lnTo>
                <a:lnTo>
                  <a:pt x="569" y="90"/>
                </a:lnTo>
                <a:lnTo>
                  <a:pt x="567" y="77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274920" y="4021200"/>
            <a:ext cx="838440" cy="261720"/>
          </a:xfrm>
          <a:custGeom>
            <a:avLst/>
            <a:gdLst/>
            <a:ahLst/>
            <a:rect l="l" t="t" r="r" b="b"/>
            <a:pathLst>
              <a:path w="528" h="165">
                <a:moveTo>
                  <a:pt x="0" y="164"/>
                </a:moveTo>
                <a:lnTo>
                  <a:pt x="12" y="126"/>
                </a:lnTo>
                <a:lnTo>
                  <a:pt x="58" y="71"/>
                </a:lnTo>
                <a:lnTo>
                  <a:pt x="121" y="35"/>
                </a:lnTo>
                <a:lnTo>
                  <a:pt x="157" y="27"/>
                </a:lnTo>
                <a:lnTo>
                  <a:pt x="175" y="54"/>
                </a:lnTo>
                <a:lnTo>
                  <a:pt x="194" y="71"/>
                </a:lnTo>
                <a:lnTo>
                  <a:pt x="221" y="71"/>
                </a:lnTo>
                <a:lnTo>
                  <a:pt x="284" y="44"/>
                </a:lnTo>
                <a:lnTo>
                  <a:pt x="311" y="27"/>
                </a:lnTo>
                <a:lnTo>
                  <a:pt x="338" y="17"/>
                </a:lnTo>
                <a:lnTo>
                  <a:pt x="357" y="27"/>
                </a:lnTo>
                <a:lnTo>
                  <a:pt x="384" y="35"/>
                </a:lnTo>
                <a:lnTo>
                  <a:pt x="420" y="35"/>
                </a:lnTo>
                <a:lnTo>
                  <a:pt x="447" y="27"/>
                </a:lnTo>
                <a:lnTo>
                  <a:pt x="483" y="8"/>
                </a:lnTo>
                <a:lnTo>
                  <a:pt x="519" y="0"/>
                </a:lnTo>
                <a:lnTo>
                  <a:pt x="527" y="1"/>
                </a:lnTo>
              </a:path>
            </a:pathLst>
          </a:custGeom>
          <a:noFill/>
          <a:ln cap="rnd"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774600" y="2789280"/>
            <a:ext cx="796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825720" y="3575160"/>
            <a:ext cx="1303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hav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477800" y="5452920"/>
            <a:ext cx="1379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686640" y="2205000"/>
            <a:ext cx="825480" cy="825480"/>
          </a:xfrm>
          <a:prstGeom prst="ellipse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95920" y="3348000"/>
            <a:ext cx="825480" cy="825480"/>
          </a:xfrm>
          <a:prstGeom prst="ellipse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705200" y="4491000"/>
            <a:ext cx="825480" cy="825480"/>
          </a:xfrm>
          <a:prstGeom prst="ellipse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58040" y="4568760"/>
            <a:ext cx="825480" cy="825480"/>
          </a:xfrm>
          <a:prstGeom prst="ellipse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620120" y="3429000"/>
            <a:ext cx="825480" cy="825480"/>
          </a:xfrm>
          <a:prstGeom prst="ellipse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6070320" y="3071880"/>
            <a:ext cx="990360" cy="30456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97760" y="3089160"/>
            <a:ext cx="990720" cy="38124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5138640" y="4232160"/>
            <a:ext cx="914400" cy="30492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05600" y="4268880"/>
            <a:ext cx="838080" cy="38088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96080" y="3836880"/>
            <a:ext cx="752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518160" y="4992840"/>
            <a:ext cx="739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0" y="5489640"/>
            <a:ext cx="1515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581960" y="2935440"/>
            <a:ext cx="512640" cy="223560"/>
          </a:xfrm>
          <a:custGeom>
            <a:avLst/>
            <a:gdLst/>
            <a:ahLst/>
            <a:rect l="l" t="t" r="r" b="b"/>
            <a:pathLst>
              <a:path w="323" h="141">
                <a:moveTo>
                  <a:pt x="0" y="140"/>
                </a:moveTo>
                <a:lnTo>
                  <a:pt x="32" y="65"/>
                </a:lnTo>
                <a:lnTo>
                  <a:pt x="64" y="22"/>
                </a:lnTo>
                <a:lnTo>
                  <a:pt x="86" y="11"/>
                </a:lnTo>
                <a:lnTo>
                  <a:pt x="118" y="22"/>
                </a:lnTo>
                <a:lnTo>
                  <a:pt x="161" y="33"/>
                </a:lnTo>
                <a:lnTo>
                  <a:pt x="204" y="65"/>
                </a:lnTo>
                <a:lnTo>
                  <a:pt x="214" y="97"/>
                </a:lnTo>
                <a:lnTo>
                  <a:pt x="247" y="65"/>
                </a:lnTo>
                <a:lnTo>
                  <a:pt x="268" y="33"/>
                </a:lnTo>
                <a:lnTo>
                  <a:pt x="289" y="11"/>
                </a:lnTo>
                <a:lnTo>
                  <a:pt x="322" y="0"/>
                </a:lnTo>
                <a:lnTo>
                  <a:pt x="322" y="1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625160" y="2546280"/>
            <a:ext cx="1253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756400" y="3768840"/>
            <a:ext cx="706320" cy="12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756480" y="2627280"/>
            <a:ext cx="723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802040" y="4898880"/>
            <a:ext cx="739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1049400" y="3879360"/>
            <a:ext cx="2549520" cy="93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8F31E-E7C4-4695-A72D-5C3486B5D4A7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BE9403-41D0-4BFD-9023-6DF7F013DEE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15T01:43:27Z</dcterms:created>
  <dc:creator>Benedikt Stefansson</dc:creator>
  <dc:description/>
  <dc:language>en-US</dc:language>
  <cp:lastModifiedBy>Office</cp:lastModifiedBy>
  <dcterms:modified xsi:type="dcterms:W3CDTF">1999-03-27T03:04:52Z</dcterms:modified>
  <cp:revision>42</cp:revision>
  <dc:subject/>
  <dc:title>Swarmfest 1998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6777215</vt:r8>
  </property>
  <property fmtid="{D5CDD505-2E9C-101B-9397-08002B2CF9AE}" pid="3" name="ButtonType">
    <vt:r8>4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cce.sscnet.ucla.edu/swarmcourse</vt:lpwstr>
  </property>
  <property fmtid="{D5CDD505-2E9C-101B-9397-08002B2CF9AE}" pid="9" name="LinkColor">
    <vt:r8>16711782</vt:r8>
  </property>
  <property fmtid="{D5CDD505-2E9C-101B-9397-08002B2CF9AE}" pid="10" name="MailAddress">
    <vt:lpwstr>benedikt@ucla.edu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Documents\Benedikt\CourseMaterial\Swarmfest 1998</vt:lpwstr>
  </property>
  <property fmtid="{D5CDD505-2E9C-101B-9397-08002B2CF9AE}" pid="14" name="ScreenSize">
    <vt:r8>1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0</vt:bool>
  </property>
  <property fmtid="{D5CDD505-2E9C-101B-9397-08002B2CF9AE}" pid="21" name="VisitedColor">
    <vt:r8>10040268</vt:r8>
  </property>
</Properties>
</file>